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D78B-6C43-4922-A6A7-8FA23BCA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E93A-EC22-42AB-860B-D24F41D4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838E-7A7E-4B7D-9FAD-2FF0571C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9E8B-4782-4041-AC74-FF681FE3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BDF2-6E57-4F8B-AE19-F7F5C810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AAB3-1DD1-4EC0-BCAA-6D3D77CB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C5AF-2337-41F8-9DA3-2E763A70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054E-F5DE-42F4-8B91-3A6F3426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B45E-945D-494C-BEF7-61586D78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4D50-F8DC-478E-9196-A132B36A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8237-FDB8-4000-8D9C-22574EB9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CE42-379F-427E-8138-9C9DB753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3DD3-FFEF-4FCC-9549-7EA2244C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C115-CCC3-4DE5-8A7D-4D2B4C93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AEE3-5C38-4C08-BCCD-32C4D91F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99D7-21BE-47C4-8A16-AF1EC564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CBCC-E465-4205-A782-2A87E26C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A3C-C8A6-43D3-B2D2-0390F2BC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BDD-AA4F-402A-8576-6B062C15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19A2-15D5-4845-8C23-1B11F212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04CF-6ADB-40C5-90B8-3E362CFB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7CA3-F1E9-415B-A58E-0D61B3EB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984D-E5BA-46CD-8526-25602FE9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16EC-A27B-47C7-8634-F2ED3A95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1B00-FFAF-4DA4-8F10-1EFC27703D4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57B4-1BB3-4A1C-99A5-556B2939CAF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50920" y="765000"/>
            <a:ext cx="75960" cy="5832720"/>
          </a:xfrm>
          <a:prstGeom prst="rect">
            <a:avLst/>
          </a:prstGeom>
          <a:solidFill>
            <a:srgbClr val="6ba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8"/>
          <p:cNvGrpSpPr/>
          <p:nvPr/>
        </p:nvGrpSpPr>
        <p:grpSpPr>
          <a:xfrm>
            <a:off x="826920" y="0"/>
            <a:ext cx="8317080" cy="6222600"/>
            <a:chOff x="826920" y="0"/>
            <a:chExt cx="8317080" cy="6222600"/>
          </a:xfrm>
        </p:grpSpPr>
        <p:sp>
          <p:nvSpPr>
            <p:cNvPr id="80" name="Rectangle 9"/>
            <p:cNvSpPr/>
            <p:nvPr/>
          </p:nvSpPr>
          <p:spPr>
            <a:xfrm flipV="1">
              <a:off x="8687520" y="0"/>
              <a:ext cx="452880" cy="491040"/>
            </a:xfrm>
            <a:prstGeom prst="rect">
              <a:avLst/>
            </a:prstGeom>
            <a:solidFill>
              <a:srgbClr val="6ba7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0"/>
            <p:cNvSpPr/>
            <p:nvPr/>
          </p:nvSpPr>
          <p:spPr>
            <a:xfrm flipV="1">
              <a:off x="826920" y="0"/>
              <a:ext cx="7873560" cy="491040"/>
            </a:xfrm>
            <a:prstGeom prst="rect">
              <a:avLst/>
            </a:prstGeom>
            <a:solidFill>
              <a:srgbClr val="f7c127">
                <a:alpha val="8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</a:rPr>
                <a:t>Головне управління праці та соціальнорго захисту населення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1"/>
            <p:cNvSpPr/>
            <p:nvPr/>
          </p:nvSpPr>
          <p:spPr>
            <a:xfrm flipV="1">
              <a:off x="826920" y="490680"/>
              <a:ext cx="7873560" cy="245520"/>
            </a:xfrm>
            <a:prstGeom prst="rect">
              <a:avLst/>
            </a:prstGeom>
            <a:solidFill>
              <a:srgbClr val="6ba7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Сумської обласної державної адміністрації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 flipV="1">
              <a:off x="8697240" y="491040"/>
              <a:ext cx="443160" cy="245520"/>
            </a:xfrm>
            <a:prstGeom prst="rect">
              <a:avLst/>
            </a:prstGeom>
            <a:solidFill>
              <a:srgbClr val="f0c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13"/>
            <p:cNvSpPr/>
            <p:nvPr/>
          </p:nvSpPr>
          <p:spPr>
            <a:xfrm flipH="1">
              <a:off x="1204560" y="3520440"/>
              <a:ext cx="7627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4"/>
            <p:cNvSpPr/>
            <p:nvPr/>
          </p:nvSpPr>
          <p:spPr>
            <a:xfrm>
              <a:off x="826920" y="0"/>
              <a:ext cx="8317080" cy="62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Picture 16" descr="Безимени-1"/>
          <p:cNvPicPr/>
          <p:nvPr/>
        </p:nvPicPr>
        <p:blipFill>
          <a:blip r:embed="rId2"/>
          <a:stretch/>
        </p:blipFill>
        <p:spPr>
          <a:xfrm>
            <a:off x="0" y="0"/>
            <a:ext cx="863640" cy="77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50920" y="765000"/>
            <a:ext cx="75960" cy="5832720"/>
          </a:xfrm>
          <a:prstGeom prst="rect">
            <a:avLst/>
          </a:prstGeom>
          <a:solidFill>
            <a:srgbClr val="6ba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8"/>
          <p:cNvGrpSpPr/>
          <p:nvPr/>
        </p:nvGrpSpPr>
        <p:grpSpPr>
          <a:xfrm>
            <a:off x="826920" y="0"/>
            <a:ext cx="8317080" cy="6222600"/>
            <a:chOff x="826920" y="0"/>
            <a:chExt cx="8317080" cy="6222600"/>
          </a:xfrm>
        </p:grpSpPr>
        <p:sp>
          <p:nvSpPr>
            <p:cNvPr id="125" name="Rectangle 9"/>
            <p:cNvSpPr/>
            <p:nvPr/>
          </p:nvSpPr>
          <p:spPr>
            <a:xfrm flipV="1">
              <a:off x="8687520" y="0"/>
              <a:ext cx="452880" cy="491040"/>
            </a:xfrm>
            <a:prstGeom prst="rect">
              <a:avLst/>
            </a:prstGeom>
            <a:solidFill>
              <a:srgbClr val="6ba7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 flipV="1">
              <a:off x="826920" y="0"/>
              <a:ext cx="7873560" cy="491040"/>
            </a:xfrm>
            <a:prstGeom prst="rect">
              <a:avLst/>
            </a:prstGeom>
            <a:solidFill>
              <a:srgbClr val="f7c127">
                <a:alpha val="8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</a:rPr>
                <a:t>Департамент соціального захисту населення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 flipV="1">
              <a:off x="826920" y="490680"/>
              <a:ext cx="7873560" cy="245520"/>
            </a:xfrm>
            <a:prstGeom prst="rect">
              <a:avLst/>
            </a:prstGeom>
            <a:solidFill>
              <a:srgbClr val="6ba7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Сумської обласної державної адміністрації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 flipV="1">
              <a:off x="8697240" y="491040"/>
              <a:ext cx="443160" cy="245520"/>
            </a:xfrm>
            <a:prstGeom prst="rect">
              <a:avLst/>
            </a:prstGeom>
            <a:solidFill>
              <a:srgbClr val="f0c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H="1">
              <a:off x="1204560" y="3520440"/>
              <a:ext cx="7627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826920" y="0"/>
              <a:ext cx="8317080" cy="62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Picture 16" descr="Безимени-1"/>
          <p:cNvPicPr/>
          <p:nvPr/>
        </p:nvPicPr>
        <p:blipFill>
          <a:blip r:embed="rId2"/>
          <a:stretch/>
        </p:blipFill>
        <p:spPr>
          <a:xfrm>
            <a:off x="0" y="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00b0f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499"/>
              </a:spcBef>
              <a:buClr>
                <a:srgbClr val="00b0f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499"/>
              </a:spcBef>
              <a:buClr>
                <a:srgbClr val="10620a"/>
              </a:buClr>
              <a:buSzPct val="5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Users\user\Desktop\Рисунок1.jpg"/>
          <p:cNvPicPr/>
          <p:nvPr/>
        </p:nvPicPr>
        <p:blipFill>
          <a:blip r:embed="rId1"/>
          <a:stretch/>
        </p:blipFill>
        <p:spPr>
          <a:xfrm>
            <a:off x="0" y="-30240"/>
            <a:ext cx="9169560" cy="688824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4"/>
          <p:cNvSpPr/>
          <p:nvPr/>
        </p:nvSpPr>
        <p:spPr>
          <a:xfrm>
            <a:off x="511200" y="1405080"/>
            <a:ext cx="842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3333cc"/>
                </a:solidFill>
                <a:latin typeface="Times New Roman"/>
              </a:rPr>
              <a:t>Реформування системи надання житлових субсидій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Прямоугольник 2"/>
          <p:cNvSpPr/>
          <p:nvPr/>
        </p:nvSpPr>
        <p:spPr>
          <a:xfrm>
            <a:off x="457200" y="1444680"/>
            <a:ext cx="8566200" cy="4178160"/>
          </a:xfrm>
          <a:prstGeom prst="rect">
            <a:avLst/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936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60e82"/>
                </a:solidFill>
                <a:uFillTx/>
                <a:latin typeface="Times New Roman"/>
              </a:rPr>
              <a:t>2. </a:t>
            </a:r>
            <a:r>
              <a:rPr b="1" lang="ru-RU" sz="2400" spc="-1" strike="noStrike" u="sng">
                <a:solidFill>
                  <a:srgbClr val="160e82"/>
                </a:solidFill>
                <a:uFillTx/>
                <a:latin typeface="Times New Roman"/>
              </a:rPr>
              <a:t>Куди і як подаються документ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З питання призначення житлової субсидії необхідно звернутися до управління праці та соціального захисту населення за місцем реєстрації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60e82"/>
                </a:solidFill>
                <a:uFillTx/>
                <a:latin typeface="Times New Roman"/>
              </a:rPr>
              <a:t>Документи</a:t>
            </a: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 для призначення субсидії </a:t>
            </a:r>
            <a:r>
              <a:rPr b="1" lang="ru-RU" sz="2400" spc="-1" strike="noStrike" u="sng">
                <a:solidFill>
                  <a:srgbClr val="160e82"/>
                </a:solidFill>
                <a:uFillTx/>
                <a:latin typeface="Times New Roman"/>
              </a:rPr>
              <a:t>можуть бути надіслані д</a:t>
            </a: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о місцевого управління праці та соціального захисту населення </a:t>
            </a:r>
            <a:r>
              <a:rPr b="1" lang="ru-RU" sz="2400" spc="-1" strike="noStrike" u="sng">
                <a:solidFill>
                  <a:srgbClr val="160e82"/>
                </a:solidFill>
                <a:uFillTx/>
                <a:latin typeface="Times New Roman"/>
              </a:rPr>
              <a:t>поштою</a:t>
            </a: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60e82"/>
                </a:solidFill>
                <a:latin typeface="Times New Roman"/>
              </a:rPr>
              <a:t>У сільській місцевості приймання заяв з необхідними документами для призначення субсидій здійснюють уповноважені особи, які визначаються виконавчими органами сільських і селищних рад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Прямоугольник 2"/>
          <p:cNvSpPr/>
          <p:nvPr/>
        </p:nvSpPr>
        <p:spPr>
          <a:xfrm>
            <a:off x="552600" y="1346040"/>
            <a:ext cx="8367480" cy="5214600"/>
          </a:xfrm>
          <a:prstGeom prst="rect">
            <a:avLst/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936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0e82"/>
                </a:solidFill>
                <a:latin typeface="Times New Roman"/>
              </a:rPr>
              <a:t>3. Перелік документів для призначення субсиді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60e82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160e82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спрощена заява за встановленою формою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160e8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спрощена декларація про доходи і витрати осіб, зареєстрованих у житловому приміщенні за встановленою формою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Всі інші відомості, що необхідні для призначення житлових субсидій </a:t>
            </a:r>
            <a:r>
              <a:rPr b="1" i="1" lang="ru-RU" sz="2400" spc="-1" strike="noStrike">
                <a:solidFill>
                  <a:srgbClr val="160e82"/>
                </a:solidFill>
                <a:latin typeface="Times New Roman"/>
              </a:rPr>
              <a:t>(про забезпеченість громадян житловою площею та комунальними послугами)</a:t>
            </a: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 надають організації, які надають ці послуги, на запит органів соціального захисту населенн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Інформацію про доходи для призначення житлової субсидії органи соціального захисту населення будуть отримувати у порядку обміну від Державної фіскальної служи та Пенсійного фонду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396720" y="1028880"/>
            <a:ext cx="8531280" cy="4483080"/>
          </a:xfrm>
          <a:prstGeom prst="rect">
            <a:avLst/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936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Для призначення житлової субсидії застосовуватимуться доходи за попередній календарний рік без урахування сплачених податкі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Після закінчення терміну отримання субсидії органи соціального захисту населення здійснюватимуть розрахунок субсидії на наступний період </a:t>
            </a:r>
            <a:r>
              <a:rPr b="1" lang="ru-RU" sz="2400" spc="-1" strike="noStrike" u="sng">
                <a:solidFill>
                  <a:srgbClr val="160e82"/>
                </a:solidFill>
                <a:uFillTx/>
                <a:latin typeface="Times New Roman"/>
              </a:rPr>
              <a:t>автоматично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Для цього вони збиратимуть необхідну інформацію без звернення громадянина і протягом двох місяців з початку нового періоду прийматимуть рішення щодо призначення (непризначення) субсидії цим домогосподарствам та письмово інформують про прийняте рішення громадян, які зверталис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492120" y="1774800"/>
            <a:ext cx="8548560" cy="4362840"/>
          </a:xfrm>
          <a:prstGeom prst="rect">
            <a:avLst/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936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0e82"/>
                </a:solidFill>
                <a:latin typeface="Times New Roman"/>
              </a:rPr>
              <a:t>Всі члени домогосподарства дають згоду на обробку персональних даних про сім’ю, доходи, витрати, що необхідні для призначення житлової субсидії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0e82"/>
                </a:solidFill>
                <a:latin typeface="Times New Roman"/>
              </a:rPr>
              <a:t>У разі зміни обставин, які можуть вплинути на отримання житлової субсидії (зміни у складі зареєстрованих у житловому приміщенні (будинку) осіб, зміни у переліку отримуваних житлово- комунальних послуг, умов їх надання, виконавців житлово-комунальних послуг, про купівлю товарів або оплату послуг) заявник зобов’язується у місячний термін повідомити орган соціального захисту населення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60e82"/>
                </a:solidFill>
                <a:latin typeface="Times New Roman"/>
              </a:rPr>
              <a:t>Якщо подано неповні чи недостовірні відомості про доходи та витрати зареєстрованих у житловому приміщенні/будинку осіб може бути відмовлено в призначенні субсидії або припинено її надання. У такому разі заявник зобов’язується повернути надміру перераховану (виплачену) суму субсидії </a:t>
            </a:r>
            <a:r>
              <a:rPr b="1" lang="uk-UA" sz="2000" spc="-1" strike="noStrike" u="sng">
                <a:solidFill>
                  <a:srgbClr val="160e82"/>
                </a:solidFill>
                <a:uFillTx/>
                <a:latin typeface="Times New Roman"/>
              </a:rPr>
              <a:t>у подвійному розмірі</a:t>
            </a:r>
            <a:r>
              <a:rPr b="1" lang="uk-UA" sz="2000" spc="-1" strike="noStrike">
                <a:solidFill>
                  <a:srgbClr val="160e82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Скругленный прямоугольник 4"/>
          <p:cNvSpPr/>
          <p:nvPr/>
        </p:nvSpPr>
        <p:spPr>
          <a:xfrm>
            <a:off x="708120" y="853920"/>
            <a:ext cx="8159760" cy="85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9dfb"/>
              </a:gs>
              <a:gs pos="100000">
                <a:srgbClr val="e4e4fe"/>
              </a:gs>
            </a:gsLst>
            <a:lin ang="16200000"/>
          </a:gradFill>
          <a:ln w="9360">
            <a:solidFill>
              <a:srgbClr val="190ea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e82"/>
                </a:solidFill>
                <a:latin typeface="Times New Roman"/>
              </a:rPr>
              <a:t>Посилення відповідальності заявника за надані відомості для призначення субсиді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Скругленный прямоугольник 2"/>
          <p:cNvSpPr/>
          <p:nvPr/>
        </p:nvSpPr>
        <p:spPr>
          <a:xfrm>
            <a:off x="708120" y="853920"/>
            <a:ext cx="8159760" cy="85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9dfb"/>
              </a:gs>
              <a:gs pos="100000">
                <a:srgbClr val="e4e4fe"/>
              </a:gs>
            </a:gsLst>
            <a:lin ang="16200000"/>
          </a:gradFill>
          <a:ln w="9360">
            <a:solidFill>
              <a:srgbClr val="190ea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60e82"/>
                </a:solidFill>
                <a:latin typeface="Times New Roman"/>
              </a:rPr>
              <a:t>Соціальні нормативи споживанн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60e82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160e82"/>
                </a:solidFill>
                <a:latin typeface="Times New Roman"/>
              </a:rPr>
              <a:t>природного газу для надання субсидій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19000" y="2181240"/>
          <a:ext cx="8013960" cy="3556080"/>
        </p:xfrm>
        <a:graphic>
          <a:graphicData uri="http://schemas.openxmlformats.org/drawingml/2006/table">
            <a:tbl>
              <a:tblPr/>
              <a:tblGrid>
                <a:gridCol w="1859040"/>
                <a:gridCol w="6154920"/>
              </a:tblGrid>
              <a:tr h="84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7 </a:t>
                      </a: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м</a:t>
                      </a:r>
                      <a:r>
                        <a:rPr b="0" lang="uk-UA" sz="20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3</a:t>
                      </a: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а </a:t>
                      </a:r>
                      <a:r>
                        <a:rPr b="1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1 м</a:t>
                      </a:r>
                      <a:r>
                        <a:rPr b="1" lang="uk-UA" sz="20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2</a:t>
                      </a: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площ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а опалення житла </a:t>
                      </a:r>
                      <a:r>
                        <a:rPr b="0" i="1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(в опалювальний період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6</a:t>
                      </a: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м</a:t>
                      </a:r>
                      <a:r>
                        <a:rPr b="0" lang="uk-UA" sz="20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3</a:t>
                      </a: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на особ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а приготування їжі </a:t>
                      </a:r>
                      <a:r>
                        <a:rPr b="0" i="1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(газова плита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9</a:t>
                      </a: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м</a:t>
                      </a:r>
                      <a:r>
                        <a:rPr b="0" lang="uk-UA" sz="20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3</a:t>
                      </a: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на особ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а приготування</a:t>
                      </a:r>
                      <a:r>
                        <a:rPr b="0" lang="ru-RU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їжі та підігрів води </a:t>
                      </a:r>
                      <a:r>
                        <a:rPr b="0" i="1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(газова плита за відсутності гарячого водопостачання і газового водонагрівача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18</a:t>
                      </a: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м</a:t>
                      </a:r>
                      <a:r>
                        <a:rPr b="0" lang="uk-UA" sz="20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3</a:t>
                      </a: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на особ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а приготування</a:t>
                      </a:r>
                      <a:r>
                        <a:rPr b="0" lang="ru-RU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їжі та підігрів води </a:t>
                      </a:r>
                      <a:r>
                        <a:rPr b="0" i="1" lang="uk-UA" sz="20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(газова плита за наявності газового водонагрівача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Скругленный прямоугольник 2"/>
          <p:cNvSpPr/>
          <p:nvPr/>
        </p:nvSpPr>
        <p:spPr>
          <a:xfrm>
            <a:off x="708120" y="853920"/>
            <a:ext cx="8159760" cy="142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9dfb"/>
              </a:gs>
              <a:gs pos="100000">
                <a:srgbClr val="e4e4fe"/>
              </a:gs>
            </a:gsLst>
            <a:lin ang="16200000"/>
          </a:gradFill>
          <a:ln w="9360">
            <a:solidFill>
              <a:srgbClr val="190ea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60e82"/>
                </a:solidFill>
                <a:latin typeface="Times New Roman"/>
              </a:rPr>
              <a:t>Соціальні нормативи </a:t>
            </a:r>
            <a:br>
              <a:rPr sz="2800"/>
            </a:br>
            <a:r>
              <a:rPr b="1" lang="uk-UA" sz="2800" spc="-1" strike="noStrike">
                <a:solidFill>
                  <a:srgbClr val="160e82"/>
                </a:solidFill>
                <a:latin typeface="Times New Roman"/>
              </a:rPr>
              <a:t>централізованого холодного та гарячого водопостачання та водовідведення для надання субсиді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080" y="2319480"/>
          <a:ext cx="8058240" cy="3828960"/>
        </p:xfrm>
        <a:graphic>
          <a:graphicData uri="http://schemas.openxmlformats.org/drawingml/2006/table">
            <a:tbl>
              <a:tblPr/>
              <a:tblGrid>
                <a:gridCol w="2222640"/>
                <a:gridCol w="5835600"/>
              </a:tblGrid>
              <a:tr h="86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2,4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м</a:t>
                      </a:r>
                      <a:r>
                        <a:rPr b="0" lang="uk-UA" sz="24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3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а особу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Централізоване постачання холодної вод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1,6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м</a:t>
                      </a:r>
                      <a:r>
                        <a:rPr b="0" lang="uk-UA" sz="24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3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а особу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Централізоване постачання гарячої вод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4,0 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м</a:t>
                      </a:r>
                      <a:r>
                        <a:rPr b="0" lang="uk-UA" sz="24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3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а особу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Централізоване постачання холодної води (за відсутності гарячого водопостачання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4,0 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м</a:t>
                      </a:r>
                      <a:r>
                        <a:rPr b="0" lang="uk-UA" sz="24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3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а особу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Централізоване водовідведенн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Скругленный прямоугольник 2"/>
          <p:cNvSpPr/>
          <p:nvPr/>
        </p:nvSpPr>
        <p:spPr>
          <a:xfrm>
            <a:off x="663480" y="819000"/>
            <a:ext cx="8161560" cy="106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9dfb"/>
              </a:gs>
              <a:gs pos="100000">
                <a:srgbClr val="e4e4fe"/>
              </a:gs>
            </a:gsLst>
            <a:lin ang="16200000"/>
          </a:gradFill>
          <a:ln w="9360">
            <a:solidFill>
              <a:srgbClr val="190ea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60e82"/>
                </a:solidFill>
                <a:latin typeface="Times New Roman"/>
              </a:rPr>
              <a:t>Соціальні нормативи </a:t>
            </a:r>
            <a:br>
              <a:rPr sz="2800"/>
            </a:br>
            <a:r>
              <a:rPr b="1" lang="uk-UA" sz="2800" spc="-1" strike="noStrike">
                <a:solidFill>
                  <a:srgbClr val="160e82"/>
                </a:solidFill>
                <a:latin typeface="Times New Roman"/>
              </a:rPr>
              <a:t>споживання електричної енергії для надання субсиді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93800" y="2087640"/>
          <a:ext cx="8091360" cy="4651200"/>
        </p:xfrm>
        <a:graphic>
          <a:graphicData uri="http://schemas.openxmlformats.org/drawingml/2006/table">
            <a:tbl>
              <a:tblPr/>
              <a:tblGrid>
                <a:gridCol w="2832120"/>
                <a:gridCol w="525924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65 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кВт.год на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1 м</a:t>
                      </a:r>
                      <a:r>
                        <a:rPr b="1" lang="uk-UA" sz="18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2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площі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c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а опалення житла </a:t>
                      </a:r>
                      <a:r>
                        <a:rPr b="0" i="1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(в опалювальний період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130 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кВт.год на одну-дві особи + </a:t>
                      </a:r>
                      <a:r>
                        <a:rPr b="1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30</a:t>
                      </a:r>
                      <a:r>
                        <a:rPr b="1" lang="uk-UA" sz="18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кВт.год на кожного іншог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У будинках, обладнаних стаціонарн. електроплитами </a:t>
                      </a:r>
                      <a:r>
                        <a:rPr b="0" i="1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(за наявності гарячого водопостачання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150 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кВт.год на одну-дві особи + </a:t>
                      </a:r>
                      <a:r>
                        <a:rPr b="1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30</a:t>
                      </a:r>
                      <a:r>
                        <a:rPr b="1" lang="uk-UA" sz="18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кВт.год на кожного іншог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У будинках, обладнаних стаціонарн. електроплитами </a:t>
                      </a:r>
                      <a:r>
                        <a:rPr b="0" i="1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(за відсутності гарячого водопостачання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90 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кВт.год на одну-дві особи + </a:t>
                      </a:r>
                      <a:r>
                        <a:rPr b="1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30</a:t>
                      </a:r>
                      <a:r>
                        <a:rPr b="1" lang="uk-UA" sz="18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кВт.год на кожного іншог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У будинках, не обладнаних стаціонарн. електроплитами </a:t>
                      </a:r>
                      <a:r>
                        <a:rPr b="0" i="1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(за наявності гарячого водопостачання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120 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кВт.год на одну-дві особи + </a:t>
                      </a:r>
                      <a:r>
                        <a:rPr b="1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30</a:t>
                      </a:r>
                      <a:r>
                        <a:rPr b="1" lang="uk-UA" sz="18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кВт.год на кожного іншог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У будинках, не обладнаних стаціонарн. електроплитами </a:t>
                      </a:r>
                      <a:r>
                        <a:rPr b="0" i="1" lang="uk-UA" sz="18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(за відсутності гарячого водопостачання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Скругленный прямоугольник 2"/>
          <p:cNvSpPr/>
          <p:nvPr/>
        </p:nvSpPr>
        <p:spPr>
          <a:xfrm>
            <a:off x="768240" y="809640"/>
            <a:ext cx="8159760" cy="855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9dfb"/>
              </a:gs>
              <a:gs pos="100000">
                <a:srgbClr val="e4e4fe"/>
              </a:gs>
            </a:gsLst>
            <a:lin ang="16200000"/>
          </a:gradFill>
          <a:ln w="9360">
            <a:solidFill>
              <a:srgbClr val="190ea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60e82"/>
                </a:solidFill>
                <a:latin typeface="Times New Roman"/>
              </a:rPr>
              <a:t>Соціальна норма житл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60e82"/>
                </a:solidFill>
                <a:latin typeface="Times New Roman"/>
              </a:rPr>
              <a:t>для надання субсидій</a:t>
            </a:r>
            <a:r>
              <a:rPr b="1" lang="uk-UA" sz="2400" spc="-1" strike="noStrike">
                <a:solidFill>
                  <a:srgbClr val="160e82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793800" y="1932120"/>
          <a:ext cx="8099280" cy="4275000"/>
        </p:xfrm>
        <a:graphic>
          <a:graphicData uri="http://schemas.openxmlformats.org/drawingml/2006/table">
            <a:tbl>
              <a:tblPr/>
              <a:tblGrid>
                <a:gridCol w="2093760"/>
                <a:gridCol w="6005520"/>
              </a:tblGrid>
              <a:tr h="1274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    </a:t>
                      </a:r>
                      <a:r>
                        <a:rPr b="1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13,65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м</a:t>
                      </a:r>
                      <a:r>
                        <a:rPr b="0" lang="uk-UA" sz="24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2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на особу +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35,22 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м</a:t>
                      </a:r>
                      <a:r>
                        <a:rPr b="0" lang="uk-UA" sz="24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2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на сім</a:t>
                      </a:r>
                      <a:r>
                        <a:rPr b="0" lang="en-US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’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48,87 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м</a:t>
                      </a:r>
                      <a:r>
                        <a:rPr b="0" lang="uk-UA" sz="24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орма на сім</a:t>
                      </a:r>
                      <a:r>
                        <a:rPr b="0" lang="en-US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’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ю з однієї особ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62,52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м</a:t>
                      </a:r>
                      <a:r>
                        <a:rPr b="0" lang="uk-UA" sz="24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орма на сім</a:t>
                      </a:r>
                      <a:r>
                        <a:rPr b="0" lang="en-US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’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ю з двох  осіб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76,17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 м</a:t>
                      </a:r>
                      <a:r>
                        <a:rPr b="0" lang="uk-UA" sz="24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орма на сім</a:t>
                      </a:r>
                      <a:r>
                        <a:rPr b="0" lang="en-US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’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ю з трьох   осіб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 Black"/>
                        </a:rPr>
                        <a:t>89,82 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м</a:t>
                      </a:r>
                      <a:r>
                        <a:rPr b="0" lang="uk-UA" sz="2400" spc="-1" strike="noStrike" baseline="30000">
                          <a:solidFill>
                            <a:srgbClr val="160e82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Норма на сім</a:t>
                      </a:r>
                      <a:r>
                        <a:rPr b="0" lang="en-US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’</a:t>
                      </a:r>
                      <a:r>
                        <a:rPr b="0" lang="uk-UA" sz="2400" spc="-1" strike="noStrike">
                          <a:solidFill>
                            <a:srgbClr val="160e82"/>
                          </a:solidFill>
                          <a:latin typeface="Arial"/>
                        </a:rPr>
                        <a:t>ю з чотирьох осіб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Скругленный прямоугольник 2"/>
          <p:cNvSpPr/>
          <p:nvPr/>
        </p:nvSpPr>
        <p:spPr>
          <a:xfrm>
            <a:off x="750960" y="801720"/>
            <a:ext cx="8159760" cy="853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9dfb"/>
              </a:gs>
              <a:gs pos="100000">
                <a:srgbClr val="e4e4fe"/>
              </a:gs>
            </a:gsLst>
            <a:lin ang="16200000"/>
          </a:gradFill>
          <a:ln w="9360">
            <a:solidFill>
              <a:srgbClr val="190ea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60e82"/>
                </a:solidFill>
                <a:latin typeface="Cambria"/>
              </a:rPr>
              <a:t>Розрахунок розміру субсиді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Object 3" descr=""/>
          <p:cNvPicPr/>
          <p:nvPr/>
        </p:nvPicPr>
        <p:blipFill>
          <a:blip r:embed="rId1"/>
          <a:stretch/>
        </p:blipFill>
        <p:spPr>
          <a:xfrm>
            <a:off x="888840" y="1806480"/>
            <a:ext cx="745344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Скругленный прямоугольник 3"/>
          <p:cNvSpPr/>
          <p:nvPr/>
        </p:nvSpPr>
        <p:spPr>
          <a:xfrm>
            <a:off x="750960" y="801720"/>
            <a:ext cx="8159760" cy="853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9dfb"/>
              </a:gs>
              <a:gs pos="100000">
                <a:srgbClr val="e4e4fe"/>
              </a:gs>
            </a:gsLst>
            <a:lin ang="16200000"/>
          </a:gradFill>
          <a:ln w="9360">
            <a:solidFill>
              <a:srgbClr val="190ea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60e82"/>
                </a:solidFill>
                <a:latin typeface="Cambria"/>
              </a:rPr>
              <a:t>Розрахунок розміру субсиді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Object 2" descr=""/>
          <p:cNvPicPr/>
          <p:nvPr/>
        </p:nvPicPr>
        <p:blipFill>
          <a:blip r:embed="rId1"/>
          <a:stretch/>
        </p:blipFill>
        <p:spPr>
          <a:xfrm>
            <a:off x="949320" y="1778040"/>
            <a:ext cx="739296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380880" y="1477800"/>
            <a:ext cx="8642520" cy="3934440"/>
          </a:xfrm>
          <a:prstGeom prst="rect">
            <a:avLst/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936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60e82"/>
                </a:solidFill>
                <a:latin typeface="Georgia"/>
              </a:rPr>
              <a:t>Згідно з рішенням Національної комісії, що здійснює державне регулювання у сферах енергетики та комунальних послуг, з 1 квітня 2015 року підвищуються ціни на газ і тарифи на електроенергію та теплопостачання для населенн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407880" y="871560"/>
            <a:ext cx="8407440" cy="396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503280" y="3032280"/>
          <a:ext cx="8259840" cy="3705120"/>
        </p:xfrm>
        <a:graphic>
          <a:graphicData uri="http://schemas.openxmlformats.org/drawingml/2006/table">
            <a:tbl>
              <a:tblPr/>
              <a:tblGrid>
                <a:gridCol w="6051600"/>
                <a:gridCol w="2208240"/>
              </a:tblGrid>
              <a:tr h="563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Категорія споживача у разі використання газ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Вартість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грн за 1 м³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для приготування їжі або пі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Times New Roman"/>
                        </a:rPr>
                        <a:t>ді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гріву вод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7,18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для індивідуального опалення або комплексного споживання (індивідуальне опалення, приготування їжі та/або підігрів води)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у період з 01 травня по 30 вересня (включно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7,18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у період з 01 жовтня по 30 квітня (включно)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за обсяг, спожитий до 200 м</a:t>
                      </a:r>
                      <a:r>
                        <a:rPr b="0" lang="ru-RU" sz="1800" spc="-1" strike="noStrike" baseline="30000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 природного газу на місяць (включно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3,6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за обсяг, спожитий понад 200 м</a:t>
                      </a:r>
                      <a:r>
                        <a:rPr b="0" lang="ru-RU" sz="1800" spc="-1" strike="noStrike" baseline="30000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 природного газу на місяц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7,18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" descr=""/>
          <p:cNvPicPr/>
          <p:nvPr/>
        </p:nvPicPr>
        <p:blipFill>
          <a:blip r:embed="rId1"/>
          <a:stretch/>
        </p:blipFill>
        <p:spPr>
          <a:xfrm>
            <a:off x="317520" y="822240"/>
            <a:ext cx="8661240" cy="318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479520" y="2681280"/>
          <a:ext cx="8481960" cy="4022640"/>
        </p:xfrm>
        <a:graphic>
          <a:graphicData uri="http://schemas.openxmlformats.org/drawingml/2006/table">
            <a:tbl>
              <a:tblPr/>
              <a:tblGrid>
                <a:gridCol w="6348240"/>
                <a:gridCol w="2133720"/>
              </a:tblGrid>
              <a:tr h="7304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Категорії споживачі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Тарифи на електроенергію, в копійках, за 1 кВт·год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1. Електроенергія, що відпускається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1.1. Населенню (у тому числі яке проживає в житлових будинках, обладнаних кухонними електроплитами)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за обсяг, спожитий до 100 кВт∙год електроенергії 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(н</a:t>
                      </a: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аселенню, яке проживає в сільській місцевості  - до 150 кВт∙год електроенергії ) на місяць (включно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36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за обсяг, спожитий понад 100 кВт∙год </a:t>
                      </a:r>
                      <a:r>
                        <a:rPr b="0" lang="uk-UA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(н</a:t>
                      </a: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аселенню, яке проживає в сільській місцевості  - понад 150 кВт∙год електроенергії ) до 600 кВт∙год електроенергії на місяць (включно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за обсяг, спожитий понад 600 кВт∙год електроенергії на місяц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60e82"/>
                          </a:solidFill>
                          <a:latin typeface="Times New Roman"/>
                          <a:ea typeface="Times New Roman"/>
                        </a:rPr>
                        <a:t>140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411120" y="979560"/>
            <a:ext cx="8367840" cy="3993480"/>
          </a:xfrm>
          <a:prstGeom prst="rect">
            <a:avLst/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936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e82"/>
                </a:solidFill>
                <a:latin typeface="Times New Roman"/>
              </a:rPr>
              <a:t>Призначення субсидії відбуватиметься на підставі </a:t>
            </a:r>
            <a:r>
              <a:rPr b="1" lang="ru-RU" sz="3200" spc="-1" strike="noStrike" u="sng">
                <a:solidFill>
                  <a:srgbClr val="160e82"/>
                </a:solidFill>
                <a:uFillTx/>
                <a:latin typeface="Times New Roman"/>
              </a:rPr>
              <a:t>лише двох</a:t>
            </a:r>
            <a:r>
              <a:rPr b="1" lang="ru-RU" sz="3200" spc="-1" strike="noStrike">
                <a:solidFill>
                  <a:srgbClr val="160e82"/>
                </a:solidFill>
                <a:latin typeface="Times New Roman"/>
              </a:rPr>
              <a:t> документів - заяви та декларації </a:t>
            </a:r>
            <a:r>
              <a:rPr b="1" i="1" lang="ru-RU" sz="3200" spc="-1" strike="noStrike">
                <a:solidFill>
                  <a:srgbClr val="160e82"/>
                </a:solidFill>
                <a:latin typeface="Times New Roman"/>
              </a:rPr>
              <a:t>(скасовується необхідність надання довідок про доходи, у тому числі й працюючих осіб)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160e82"/>
                </a:solidFill>
                <a:latin typeface="Times New Roman"/>
              </a:rPr>
              <a:t>При цьому запроваджуються спрощені форми заяви та декларації про доходи і витрати осіб для звернення за субсидією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Прямоугольник 2"/>
          <p:cNvSpPr/>
          <p:nvPr/>
        </p:nvSpPr>
        <p:spPr>
          <a:xfrm>
            <a:off x="457200" y="1003320"/>
            <a:ext cx="8397720" cy="4786560"/>
          </a:xfrm>
          <a:prstGeom prst="rect">
            <a:avLst/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936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e82"/>
                </a:solidFill>
                <a:latin typeface="Times New Roman"/>
              </a:rPr>
              <a:t>Запроваджується принцип призначення субсидії на підставі задекларованих даних заявником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e82"/>
                </a:solidFill>
                <a:latin typeface="Times New Roman"/>
              </a:rPr>
              <a:t>При цьому перевірка достовірності цих даних здійснюватиметься органами соціального захисту вже після призначення субсидії, шляхом здійснення запитів до відповідних органів, установ та організацій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e82"/>
                </a:solidFill>
                <a:latin typeface="Times New Roman"/>
              </a:rPr>
              <a:t>Кожне домогосподарство одночасно з рахунком для оплати енергоносіїв у квітні та жовтні 2015 року отримає спрощені форми заяви та декларації для звернення за призначенням субсидії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оугольник 5"/>
          <p:cNvSpPr/>
          <p:nvPr/>
        </p:nvSpPr>
        <p:spPr>
          <a:xfrm>
            <a:off x="473040" y="830160"/>
            <a:ext cx="8670960" cy="5275440"/>
          </a:xfrm>
          <a:prstGeom prst="rect">
            <a:avLst/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936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0e82"/>
                </a:solidFill>
                <a:latin typeface="Times New Roman"/>
              </a:rPr>
              <a:t>Скасовуються всі обмеження щодо майнового стану осіб, які звертаються за призначенням субсидій крім здійснення одноразової дорого вартісної покупки </a:t>
            </a:r>
            <a:r>
              <a:rPr b="0" i="1" lang="ru-RU" sz="2400" spc="-1" strike="noStrike">
                <a:solidFill>
                  <a:srgbClr val="160e82"/>
                </a:solidFill>
                <a:latin typeface="Times New Roman"/>
              </a:rPr>
              <a:t>(на суму понад 50 тис. гривень</a:t>
            </a:r>
            <a:r>
              <a:rPr b="0" lang="ru-RU" sz="2400" spc="-1" strike="noStrike">
                <a:solidFill>
                  <a:srgbClr val="160e82"/>
                </a:solidFill>
                <a:latin typeface="Times New Roman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60e82"/>
                </a:solidFill>
                <a:latin typeface="Times New Roman"/>
              </a:rPr>
              <a:t>-наявність у власності двох житлових приміщень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-наявність у власності двох автомобілів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-наявність у складі домогосподарства осіб </a:t>
            </a:r>
            <a:r>
              <a:rPr b="1" lang="uk-UA" sz="2400" spc="-1" strike="noStrike">
                <a:solidFill>
                  <a:srgbClr val="160e82"/>
                </a:solidFill>
                <a:latin typeface="Times New Roman"/>
              </a:rPr>
              <a:t>п</a:t>
            </a: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рацез-датного віку, які не працюють, не навчаються і не перебувають на обліку як безробітні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-здача в найм житлового приміщення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-здійснення покупки товарів, робіт та послуг </a:t>
            </a:r>
            <a:r>
              <a:rPr b="1" i="1" lang="ru-RU" sz="2400" spc="-1" strike="noStrike">
                <a:solidFill>
                  <a:srgbClr val="160e82"/>
                </a:solidFill>
                <a:latin typeface="Times New Roman"/>
              </a:rPr>
              <a:t>(у тому числі оплата медичних послуг та навчання)</a:t>
            </a: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 на суму понад 10 прожиткових</a:t>
            </a:r>
            <a:r>
              <a:rPr b="1" lang="ru-RU" sz="2800" spc="-1" strike="noStrike">
                <a:solidFill>
                  <a:srgbClr val="160e82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160e82"/>
                </a:solidFill>
                <a:latin typeface="Times New Roman"/>
              </a:rPr>
              <a:t>мінімумів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Прямоугольник 3"/>
          <p:cNvSpPr/>
          <p:nvPr/>
        </p:nvSpPr>
        <p:spPr>
          <a:xfrm>
            <a:off x="482760" y="1095480"/>
            <a:ext cx="8445240" cy="4483080"/>
          </a:xfrm>
          <a:prstGeom prst="rect">
            <a:avLst/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936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0e82"/>
                </a:solidFill>
                <a:latin typeface="Times New Roman"/>
              </a:rPr>
              <a:t>Запроваджується надання субсидії на 12 місяців, а не на 6 місяців чи опалювальний період як раніш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60e82"/>
                </a:solidFill>
                <a:latin typeface="Times New Roman"/>
              </a:rPr>
              <a:t>Встановлюється автоматичний принцип надання субсидії на новий період (скасовується необхідність повторного звернення до органу соціального захисту населення для призначення субсидії на новий період у разі відсутності змін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60e82"/>
                </a:solidFill>
                <a:latin typeface="Times New Roman"/>
              </a:rPr>
              <a:t>Для 82 тис. сімей області, які сьогодні одержують субсидії </a:t>
            </a:r>
            <a:r>
              <a:rPr b="1" i="1" lang="uk-UA" sz="2400" spc="-1" strike="noStrike">
                <a:solidFill>
                  <a:srgbClr val="160e82"/>
                </a:solidFill>
                <a:latin typeface="Times New Roman"/>
              </a:rPr>
              <a:t>(в опалювальний період 2014-2015 років) </a:t>
            </a:r>
            <a:r>
              <a:rPr b="1" lang="uk-UA" sz="2400" spc="-1" strike="noStrike">
                <a:solidFill>
                  <a:srgbClr val="160e82"/>
                </a:solidFill>
                <a:latin typeface="Times New Roman"/>
              </a:rPr>
              <a:t>передбачено автоматичне призначення субсидій на новий термін без необхідності надання нового пакету документів та звернення до органів соціального захист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17"/>
          <p:cNvSpPr/>
          <p:nvPr/>
        </p:nvSpPr>
        <p:spPr>
          <a:xfrm>
            <a:off x="8432640" y="5443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9"/>
          <p:cNvSpPr/>
          <p:nvPr/>
        </p:nvSpPr>
        <p:spPr>
          <a:xfrm>
            <a:off x="620640" y="1055520"/>
            <a:ext cx="8393040" cy="5213160"/>
          </a:xfrm>
          <a:prstGeom prst="rect">
            <a:avLst/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936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60e82"/>
                </a:solidFill>
                <a:uFillTx/>
                <a:latin typeface="Times New Roman"/>
              </a:rPr>
              <a:t>1. Кому призначається субсиді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e82"/>
                </a:solidFill>
                <a:latin typeface="Times New Roman"/>
              </a:rPr>
              <a:t>Субсидія призначається одному із членів домогосподарства, який зареєстрований у житловому приміщенні і на якого відкрито особовий рахунок на оплату житлово-комунальних послуг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e82"/>
                </a:solidFill>
                <a:latin typeface="Times New Roman"/>
              </a:rPr>
              <a:t>Право на отримання житлових субсидій мають домогосподарства, у яких витрати на оплату житлово-комунальних послуг виходячи із соціальної норми житла та соціальних нормативів користування послугами перевищують розмір визначеного обов’язкового платежу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05:00:09Z</dcterms:created>
  <dc:creator>www.PHILka.RU</dc:creator>
  <dc:description/>
  <dc:language>en-US</dc:language>
  <cp:lastModifiedBy>1</cp:lastModifiedBy>
  <dcterms:modified xsi:type="dcterms:W3CDTF">2015-04-02T05:50:59Z</dcterms:modified>
  <cp:revision>392</cp:revision>
  <dc:subject/>
  <dc:title>Слайд 1</dc:title>
</cp:coreProperties>
</file>