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FD45-081B-4162-9160-2F8A9BA3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F7EF-019D-4FFC-8747-3191BBBD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29C4-9A76-4B07-A8A6-DA34A014A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2EAE-2642-46AD-9D42-C3A48F538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93E3-443A-4BE8-BD26-A65C20C8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38D8-D2A9-43B3-9BB3-728D47CA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EA38-FADE-4234-8B05-3996F685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118E-8F88-4595-946C-02BEF177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AF27-48CF-498B-B092-7C4E8354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8BA6-04B8-4B57-B79D-D8EBC4C4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891D-3B3D-4034-9922-DF0A1A1A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170C-146B-4876-A858-F5C5D20C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1C5A-C08B-4D46-919E-9030321AE638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340000" y="5661000"/>
            <a:ext cx="4716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900000" y="2421000"/>
            <a:ext cx="77774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Запровадження обліку переміщених осі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та надання їм грошової допомог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для покриття витрат на проживання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в тому числі на оплату житлово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комунальних послуг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E:\!!!!Копил_сімя\копил.png"/>
          <p:cNvPicPr/>
          <p:nvPr/>
        </p:nvPicPr>
        <p:blipFill>
          <a:blip r:embed="rId1"/>
          <a:srcRect l="8081" t="0" r="0" b="0"/>
          <a:stretch/>
        </p:blipFill>
        <p:spPr>
          <a:xfrm>
            <a:off x="71280" y="260280"/>
            <a:ext cx="9072720" cy="120024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2"/>
          <p:cNvSpPr/>
          <p:nvPr/>
        </p:nvSpPr>
        <p:spPr>
          <a:xfrm>
            <a:off x="179280" y="620640"/>
            <a:ext cx="85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Міністерство соціальної політики Украї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E:\!!!!Копил_сімя\копил.png"/>
          <p:cNvPicPr/>
          <p:nvPr/>
        </p:nvPicPr>
        <p:blipFill>
          <a:blip r:embed="rId1"/>
          <a:srcRect l="8081" t="0" r="0" b="0"/>
          <a:stretch/>
        </p:blipFill>
        <p:spPr>
          <a:xfrm>
            <a:off x="0" y="0"/>
            <a:ext cx="9039240" cy="765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"/>
          <p:cNvSpPr/>
          <p:nvPr/>
        </p:nvSpPr>
        <p:spPr>
          <a:xfrm>
            <a:off x="538200" y="182520"/>
            <a:ext cx="824220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1"/>
          <p:cNvSpPr/>
          <p:nvPr/>
        </p:nvSpPr>
        <p:spPr>
          <a:xfrm>
            <a:off x="8459640" y="6165720"/>
            <a:ext cx="55404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57E3-97D3-4821-9EE1-767116CBE311}" type="slidenum">
              <a:rPr b="1" i="1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9"/>
          <p:cNvSpPr/>
          <p:nvPr/>
        </p:nvSpPr>
        <p:spPr>
          <a:xfrm>
            <a:off x="395280" y="765000"/>
            <a:ext cx="8386920" cy="5519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8. Адреса, за якою з особою може вестися офіційне листування або вручення офіційної кореспонденції, та номер телефон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9. Реєстраційний номер облікової картки платника податків у разі наявності інформації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0. Наявність у будь-кого із членів сім'ї у володінні житлового приміщення, що знаходиться в регіонах, інших ніж тимчасово окупована територія України та райони проведення антитерористичної операц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1. Відомості про місце роботи та час, з якого особа там працює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2. Відомості про житлові, соціальні, медичні, освітні та інші потреб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3. Дата видачі довідки та назва підрозділу, що її вида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4. Інформація про задоволення заявлених потреб, надані послуги (виплат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70c0"/>
                </a:solidFill>
                <a:latin typeface="Arial"/>
              </a:rPr>
              <a:t>Для ідентифікації в Базі даних може міститись фотографічне зображення особи, яка переміщує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8"/>
          <p:cNvSpPr/>
          <p:nvPr/>
        </p:nvSpPr>
        <p:spPr>
          <a:xfrm>
            <a:off x="468360" y="0"/>
            <a:ext cx="867564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	</a:t>
            </a:r>
            <a:r>
              <a:rPr b="1" lang="uk-UA" sz="18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	</a:t>
            </a:r>
            <a:r>
              <a:rPr b="1" lang="uk-UA" sz="18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	</a:t>
            </a:r>
            <a:r>
              <a:rPr b="1" lang="uk-UA" sz="18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	</a:t>
            </a:r>
            <a:r>
              <a:rPr b="1" lang="uk-UA" sz="18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E:\!!!!Копил_сімя\копил.png"/>
          <p:cNvPicPr/>
          <p:nvPr/>
        </p:nvPicPr>
        <p:blipFill>
          <a:blip r:embed="rId1"/>
          <a:srcRect l="8081" t="0" r="0" b="0"/>
          <a:stretch/>
        </p:blipFill>
        <p:spPr>
          <a:xfrm>
            <a:off x="0" y="115920"/>
            <a:ext cx="9072720" cy="865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539640" y="189000"/>
            <a:ext cx="82425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5"/>
          <p:cNvSpPr/>
          <p:nvPr/>
        </p:nvSpPr>
        <p:spPr>
          <a:xfrm>
            <a:off x="611280" y="1268280"/>
            <a:ext cx="8297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овідка видається у день подання заяви, яка роздруковується на папері формату А4 і підписується посадовою особою уповноваженого орга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 довідці проставляється печатка уповноваженого орга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ідомості про неповнолітніх осіб, які переміщуються разом з батьками або членами сім'ї, зазначаються у довідці одного із заявників. </a:t>
            </a:r>
            <a:r>
              <a:rPr b="1" lang="uk-UA" sz="18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6"/>
          <p:cNvSpPr/>
          <p:nvPr/>
        </p:nvSpPr>
        <p:spPr>
          <a:xfrm>
            <a:off x="2268360" y="4724280"/>
            <a:ext cx="6417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Уповноважені органи ведуть журнал обліку виданих довід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70c0"/>
                </a:solidFill>
                <a:latin typeface="Arial"/>
              </a:rPr>
              <a:t>Довідка видається безопла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2"/>
          <a:stretch/>
        </p:blipFill>
        <p:spPr>
          <a:xfrm>
            <a:off x="299880" y="4862520"/>
            <a:ext cx="1979640" cy="144612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омера слайда 1"/>
          <p:cNvSpPr/>
          <p:nvPr/>
        </p:nvSpPr>
        <p:spPr>
          <a:xfrm>
            <a:off x="8532720" y="6237360"/>
            <a:ext cx="43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578B-AB2F-47CD-B9DF-496CE1C3ACE8}" type="slidenum">
              <a:rPr b="1" i="1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E:\!!!!Копил_сімя\копил.png"/>
          <p:cNvPicPr/>
          <p:nvPr/>
        </p:nvPicPr>
        <p:blipFill>
          <a:blip r:embed="rId1"/>
          <a:srcRect l="8081" t="0" r="0" b="0"/>
          <a:stretch/>
        </p:blipFill>
        <p:spPr>
          <a:xfrm>
            <a:off x="0" y="0"/>
            <a:ext cx="9072720" cy="12682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538200" y="182520"/>
            <a:ext cx="824220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250920" y="259560"/>
            <a:ext cx="829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Підстави відмови у видачі довід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5"/>
          <p:cNvSpPr/>
          <p:nvPr/>
        </p:nvSpPr>
        <p:spPr>
          <a:xfrm>
            <a:off x="324000" y="4076640"/>
            <a:ext cx="8602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У разі зміни місця тимчасового перебування та звернення заявника за видачею довідки до іншого уповноваженого органу, а раніше видана довідка вилучається, про що вносяться відповідні зміни до Бази дан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У разі втрати або псування довідки уповноважений орган замість неї видає дублікат на підставі заяви особи, яка переміщує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324000" y="148428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) відсутні обставини, що спричинили внутрішнє переміщення особ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) заявник втратив документи, що посвідчують його особу та підтверджують громадянство України, до їх відновле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70c0"/>
                </a:solidFill>
                <a:latin typeface="Arial"/>
              </a:rPr>
              <a:t>       </a:t>
            </a:r>
            <a:r>
              <a:rPr b="1" i="1" lang="uk-UA" sz="1800" spc="-1" strike="noStrike">
                <a:solidFill>
                  <a:srgbClr val="0070c0"/>
                </a:solidFill>
                <a:latin typeface="Arial"/>
              </a:rPr>
              <a:t>У випадку відмови у видачі довідки на вимогу заявника письмово повідомляються підстави такої відмови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70c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1"/>
          <p:cNvSpPr/>
          <p:nvPr/>
        </p:nvSpPr>
        <p:spPr>
          <a:xfrm>
            <a:off x="8459640" y="623736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29B6-797C-4B26-90B0-6FA3033448F3}" type="slidenum">
              <a:rPr b="1" i="1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E:\!!!!Копил_сімя\копил.png"/>
          <p:cNvPicPr/>
          <p:nvPr/>
        </p:nvPicPr>
        <p:blipFill>
          <a:blip r:embed="rId1"/>
          <a:srcRect l="8081" t="0" r="0" b="0"/>
          <a:stretch/>
        </p:blipFill>
        <p:spPr>
          <a:xfrm>
            <a:off x="0" y="0"/>
            <a:ext cx="9072720" cy="24955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"/>
          <p:cNvSpPr/>
          <p:nvPr/>
        </p:nvSpPr>
        <p:spPr>
          <a:xfrm>
            <a:off x="538200" y="182520"/>
            <a:ext cx="824220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2"/>
          <p:cNvSpPr/>
          <p:nvPr/>
        </p:nvSpPr>
        <p:spPr>
          <a:xfrm>
            <a:off x="250920" y="260280"/>
            <a:ext cx="8596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адання грошової допомоги особам, які переміщуються з тимчасово окупованої території України та районів проведення антитерористичної операції, для покриття витрат на проживання, в тому числі на оплату житлово-комунальних по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5"/>
          <p:cNvSpPr/>
          <p:nvPr/>
        </p:nvSpPr>
        <p:spPr>
          <a:xfrm>
            <a:off x="108000" y="6308640"/>
            <a:ext cx="8589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3641760" y="2637000"/>
            <a:ext cx="525132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Постанова Кабінету Міністрів України від 1 жовтня 2014 року № 5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"Про надання щомісячної адресної допомоги особам, які переміщуються з тимчасово окупованої території України та районів проведення антитерористичної операції, для покриття витрат на проживання, в тому числі на оплату житлово-комунальних послуг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1"/>
          <p:cNvSpPr/>
          <p:nvPr/>
        </p:nvSpPr>
        <p:spPr>
          <a:xfrm>
            <a:off x="8388360" y="6237360"/>
            <a:ext cx="582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817B-284C-41BB-87B5-4DB9404B675A}" type="slidenum">
              <a:rPr b="1" i="1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5"/>
          <p:cNvSpPr/>
          <p:nvPr/>
        </p:nvSpPr>
        <p:spPr>
          <a:xfrm>
            <a:off x="468360" y="1267200"/>
            <a:ext cx="7920000" cy="1313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Для покриття витрат на проживання, </a:t>
            </a:r>
            <a:br>
              <a:rPr sz="2000"/>
            </a:b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в тому числі на оплату житлово-комунальних послуг особам, які обліковані органами соціального захисту населення надається щомісячна грошова допомо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468360" y="4797360"/>
            <a:ext cx="79912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2e"/>
                </a:solidFill>
                <a:latin typeface="Arial"/>
              </a:rPr>
              <a:t>      </a:t>
            </a: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Загальна сума допомоги на сім</a:t>
            </a:r>
            <a:r>
              <a:rPr b="1" lang="ru-RU" sz="2000" spc="-1" strike="noStrike">
                <a:solidFill>
                  <a:srgbClr val="00002e"/>
                </a:solidFill>
                <a:latin typeface="Arial"/>
              </a:rPr>
              <a:t>’</a:t>
            </a: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ю розраховується як сума розмірів допомоги на кожного члена сім</a:t>
            </a:r>
            <a:r>
              <a:rPr b="1" lang="ru-RU" sz="2000" spc="-1" strike="noStrike">
                <a:solidFill>
                  <a:srgbClr val="00002e"/>
                </a:solidFill>
                <a:latin typeface="Arial"/>
              </a:rPr>
              <a:t>’</a:t>
            </a: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ї  та не може перевищувати </a:t>
            </a:r>
            <a:r>
              <a:rPr b="1" lang="uk-UA" sz="2400" spc="-1" strike="noStrike">
                <a:solidFill>
                  <a:srgbClr val="00002e"/>
                </a:solidFill>
                <a:latin typeface="Arial"/>
              </a:rPr>
              <a:t>2 400</a:t>
            </a: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 грив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1115280" y="299736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a0409"/>
                </a:solidFill>
                <a:latin typeface="Arial"/>
              </a:rPr>
              <a:t>Розміри грошової допомоги</a:t>
            </a:r>
            <a:r>
              <a:rPr b="1" lang="uk-UA" sz="2400" spc="-1" strike="noStrike">
                <a:solidFill>
                  <a:srgbClr val="5e060e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16000" y="3141720"/>
          <a:ext cx="6719760" cy="1371600"/>
        </p:xfrm>
        <a:graphic>
          <a:graphicData uri="http://schemas.openxmlformats.org/drawingml/2006/table">
            <a:tbl>
              <a:tblPr/>
              <a:tblGrid>
                <a:gridCol w="4896000"/>
                <a:gridCol w="1823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800" spc="-1" strike="noStrike">
                          <a:solidFill>
                            <a:srgbClr val="00002e"/>
                          </a:solidFill>
                          <a:latin typeface="Arial"/>
                        </a:rPr>
                        <a:t>на одну особ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2e"/>
                          </a:solidFill>
                          <a:latin typeface="Arial"/>
                        </a:rPr>
                        <a:t>для непрацездатних</a:t>
                      </a:r>
                      <a:r>
                        <a:rPr b="0" lang="uk-UA" sz="2000" spc="-1" strike="noStrike">
                          <a:solidFill>
                            <a:srgbClr val="00002e"/>
                          </a:solidFill>
                          <a:latin typeface="Arial"/>
                        </a:rPr>
                        <a:t> осі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84 гр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2e"/>
                          </a:solidFill>
                          <a:latin typeface="Arial"/>
                        </a:rPr>
                        <a:t>для працездатних</a:t>
                      </a:r>
                      <a:r>
                        <a:rPr b="0" lang="uk-UA" sz="2000" spc="-1" strike="noStrike">
                          <a:solidFill>
                            <a:srgbClr val="00002e"/>
                          </a:solidFill>
                          <a:latin typeface="Arial"/>
                        </a:rPr>
                        <a:t> осі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42 гр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6" name="Picture 8" descr="E:\!!!!Копил_сімя\копил.png"/>
          <p:cNvPicPr/>
          <p:nvPr/>
        </p:nvPicPr>
        <p:blipFill>
          <a:blip r:embed="rId1"/>
          <a:srcRect l="8081" t="0" r="0" b="0"/>
          <a:stretch/>
        </p:blipFill>
        <p:spPr>
          <a:xfrm>
            <a:off x="0" y="0"/>
            <a:ext cx="9072720" cy="8650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65"/>
          <p:cNvSpPr/>
          <p:nvPr/>
        </p:nvSpPr>
        <p:spPr>
          <a:xfrm>
            <a:off x="177120" y="189000"/>
            <a:ext cx="38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8f8ee"/>
                </a:solidFill>
                <a:latin typeface="Arial"/>
              </a:rPr>
              <a:t>Розміри грошової допомог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1"/>
          <p:cNvSpPr/>
          <p:nvPr/>
        </p:nvSpPr>
        <p:spPr>
          <a:xfrm>
            <a:off x="8388360" y="6237360"/>
            <a:ext cx="582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3B28-22DF-4F97-8E0A-E68B5A1E52F7}" type="slidenum">
              <a:rPr b="1" i="1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11280" y="1413000"/>
            <a:ext cx="8136000" cy="47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      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Грошова допомога надається </a:t>
            </a: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особам,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які </a:t>
            </a: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обліковані структурними підрозділами соціального захисту населення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 як особи, що переміщуються з тимчасово окупованої території України та районів проведення А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      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Допомога призначається </a:t>
            </a: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на термін не більше ніж 6 місяців </a:t>
            </a:r>
            <a:br>
              <a:rPr sz="2000"/>
            </a:b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з дня звернення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 за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її 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призначенням та виплачується по місяць зняття з такого обліку (</a:t>
            </a:r>
            <a:r>
              <a:rPr b="0" i="1" lang="uk-UA" sz="2000" spc="-1" strike="noStrike">
                <a:solidFill>
                  <a:srgbClr val="00002e"/>
                </a:solidFill>
                <a:latin typeface="Arial"/>
              </a:rPr>
              <a:t>включно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      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Допомога </a:t>
            </a: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призначається на сім‘ю та виплачується уповноваженій особі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 - за умови надання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їй 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згоди від інших членів сім‘ї про виплату цій особі суми нарахованої допомог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Розмір отриманої грошової </a:t>
            </a: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допомоги не оподатковується </a:t>
            </a:r>
            <a:br>
              <a:rPr sz="2000"/>
            </a:b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і не враховується в сукупному доходу сім‘ї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 при призначенні інших видів державної соціальної допом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E:\!!!!Копил_сімя\копил.png"/>
          <p:cNvPicPr/>
          <p:nvPr/>
        </p:nvPicPr>
        <p:blipFill>
          <a:blip r:embed="rId5"/>
          <a:srcRect l="8081" t="0" r="0" b="0"/>
          <a:stretch/>
        </p:blipFill>
        <p:spPr>
          <a:xfrm>
            <a:off x="0" y="0"/>
            <a:ext cx="9072720" cy="10526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394920" y="189000"/>
            <a:ext cx="47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8f8ee"/>
                </a:solidFill>
                <a:latin typeface="Arial"/>
              </a:rPr>
              <a:t>Умови призначення допом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1"/>
          <p:cNvSpPr/>
          <p:nvPr/>
        </p:nvSpPr>
        <p:spPr>
          <a:xfrm>
            <a:off x="8388360" y="6237360"/>
            <a:ext cx="582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712A-19DE-4338-BBED-4069B5D42731}" type="slidenum">
              <a:rPr b="1" i="1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395280" y="141156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Для призначення допомоги Уповноважений представник сім’ї звертається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 до органу соціального захисту населення </a:t>
            </a: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за фактичним місцем проживання з заявою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, в якій </a:t>
            </a: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зазначаються відомості про всіх членів сім‘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E:\!!!!Копил_сімя\копил.png"/>
          <p:cNvPicPr/>
          <p:nvPr/>
        </p:nvPicPr>
        <p:blipFill>
          <a:blip r:embed="rId1"/>
          <a:srcRect l="8081" t="0" r="0" b="0"/>
          <a:stretch/>
        </p:blipFill>
        <p:spPr>
          <a:xfrm>
            <a:off x="0" y="44280"/>
            <a:ext cx="9072720" cy="10526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"/>
          <p:cNvSpPr/>
          <p:nvPr/>
        </p:nvSpPr>
        <p:spPr>
          <a:xfrm>
            <a:off x="176400" y="236520"/>
            <a:ext cx="430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8f8ee"/>
                </a:solidFill>
                <a:latin typeface="Arial"/>
              </a:rPr>
              <a:t>Заява на призначення допом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611280" y="2998800"/>
            <a:ext cx="8064360" cy="27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о заяви додають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опія свідоцтва про одруження (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за потреби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20000"/>
              </a:lnSpc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опії свідоцтв про народження дітей (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за потреби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20000"/>
              </a:lnSpc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исьмова згода довільної форми про виплату грошової допомоги уповноваженому представнику сім’ї від інших членів сім’ї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20000"/>
              </a:lnSpc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а згода на обробку персональних дан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1"/>
          <p:cNvSpPr/>
          <p:nvPr/>
        </p:nvSpPr>
        <p:spPr>
          <a:xfrm>
            <a:off x="8532720" y="6237360"/>
            <a:ext cx="43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FD42-83FE-46DF-8CC4-846B9C9AEA32}" type="slidenum">
              <a:rPr b="1" i="1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"/>
          <p:cNvSpPr/>
          <p:nvPr/>
        </p:nvSpPr>
        <p:spPr>
          <a:xfrm>
            <a:off x="179280" y="1185120"/>
            <a:ext cx="87123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5320" algn="just">
              <a:lnSpc>
                <a:spcPct val="11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  </a:t>
            </a: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у володінні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житлове приміщення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, що знаходиться </a:t>
            </a:r>
            <a:br>
              <a:rPr sz="2000"/>
            </a:b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в регіонах, інших ніж тимчасово окупована територія України </a:t>
            </a:r>
            <a:br>
              <a:rPr sz="2000"/>
            </a:b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та райони АТ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5320" algn="just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25320" algn="just">
              <a:lnSpc>
                <a:spcPct val="110000"/>
              </a:lnSpc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  </a:t>
            </a: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у володінні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два і більше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транспортних засобів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, </a:t>
            </a:r>
            <a:br>
              <a:rPr sz="2000"/>
            </a:b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що підлягають державній реєстрації та обліку </a:t>
            </a:r>
            <a:br>
              <a:rPr sz="2000"/>
            </a:b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в Державтоінспекції (</a:t>
            </a:r>
            <a:r>
              <a:rPr b="0" i="1" lang="uk-UA" sz="2000" spc="-1" strike="noStrike">
                <a:solidFill>
                  <a:srgbClr val="00002e"/>
                </a:solidFill>
                <a:latin typeface="Arial"/>
              </a:rPr>
              <a:t>не враховуються засоби, придбані на пільгових умовах через уповноважені органи, а також вітчизняні транспортні засоби з терміном експлуатації понад 10 років та інші засоби з терміном експлуатації понад 15 років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5320" algn="just">
              <a:lnSpc>
                <a:spcPct val="11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25320" algn="just">
              <a:lnSpc>
                <a:spcPct val="110000"/>
              </a:lnSpc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  </a:t>
            </a: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на депозитному 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банківському</a:t>
            </a: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 рахунку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кошти 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у розмірі</a:t>
            </a: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 більшому ніж </a:t>
            </a:r>
            <a:r>
              <a:rPr b="1" lang="uk-UA" sz="2000" spc="-1" strike="noStrike">
                <a:solidFill>
                  <a:srgbClr val="00002e"/>
                </a:solidFill>
                <a:latin typeface="Arial Black"/>
              </a:rPr>
              <a:t>10</a:t>
            </a: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-кратний розмір прожиткового мінімуму </a:t>
            </a:r>
            <a:br>
              <a:rPr sz="2000"/>
            </a:b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для працездатних осі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E:\!!!!Копил_сімя\копил.png"/>
          <p:cNvPicPr/>
          <p:nvPr/>
        </p:nvPicPr>
        <p:blipFill>
          <a:blip r:embed="rId4"/>
          <a:srcRect l="8081" t="0" r="0" b="0"/>
          <a:stretch/>
        </p:blipFill>
        <p:spPr>
          <a:xfrm>
            <a:off x="0" y="115920"/>
            <a:ext cx="9072720" cy="10526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7"/>
          <p:cNvSpPr/>
          <p:nvPr/>
        </p:nvSpPr>
        <p:spPr>
          <a:xfrm>
            <a:off x="179280" y="26028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8f8ee"/>
                </a:solidFill>
                <a:latin typeface="Arial"/>
              </a:rPr>
              <a:t>Допомога не призначається у разі, коли сім‘я має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1"/>
          <p:cNvSpPr/>
          <p:nvPr/>
        </p:nvSpPr>
        <p:spPr>
          <a:xfrm>
            <a:off x="8459640" y="623736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0C30-7389-475B-A208-357730AE9FA0}" type="slidenum">
              <a:rPr b="1" i="1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468360" y="1197000"/>
            <a:ext cx="8424720" cy="49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опомога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ля працездатних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членів сім’ї зменшується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на наступні два місяці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на 50 відсотків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 якщо вон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algn="just">
              <a:lnSpc>
                <a:spcPct val="10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е працевлаштувалися протягом двох місяців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 дня призначення виплати грошової допомоги,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 тому числі за сприянням державної служби зайнятост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algn="just">
              <a:lnSpc>
                <a:spcPct val="10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еребувають в трудових відносинах з роботодавцями на тимчасово окупованій території України чи в районах проведення АТО, але фактично не працюю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Якщо і після цього працездатна особа не працевлаштувалася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иплата допомоги припиняється.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соби працездатного віку, яким призначено допомогу зобов'язані у 3-денний строк повідомити управління соціального захисту про факт працевлаштув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8" descr="E:\!!!!Копил_сімя\копил.png"/>
          <p:cNvPicPr/>
          <p:nvPr/>
        </p:nvPicPr>
        <p:blipFill>
          <a:blip r:embed="rId3"/>
          <a:srcRect l="8081" t="0" r="0" b="0"/>
          <a:stretch/>
        </p:blipFill>
        <p:spPr>
          <a:xfrm>
            <a:off x="0" y="115920"/>
            <a:ext cx="9072720" cy="10526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7"/>
          <p:cNvSpPr/>
          <p:nvPr/>
        </p:nvSpPr>
        <p:spPr>
          <a:xfrm>
            <a:off x="246960" y="307800"/>
            <a:ext cx="485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8f8ee"/>
                </a:solidFill>
                <a:latin typeface="Arial"/>
              </a:rPr>
              <a:t>Умови зменшення розміру допом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1"/>
          <p:cNvSpPr/>
          <p:nvPr/>
        </p:nvSpPr>
        <p:spPr>
          <a:xfrm>
            <a:off x="8459640" y="623736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64AA-940E-4391-8D6B-DD3624233A5F}" type="slidenum">
              <a:rPr b="1" i="1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539640" y="1125360"/>
            <a:ext cx="820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1800" algn="just"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за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 відповідною </a:t>
            </a: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заявою уповноваженого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 представника сім’ї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за повідомленням державної служби зайнятості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 про те, </a:t>
            </a:r>
            <a:br>
              <a:rPr sz="2000"/>
            </a:b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що працездатні члени сім’ї у встановлений строк </a:t>
            </a:r>
            <a:br>
              <a:rPr sz="2000"/>
            </a:b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не працевлаштували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у разі скасування довідки про взяття на облік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 внутрішньо переміщеної особ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2e"/>
                </a:solidFill>
                <a:latin typeface="Arial"/>
              </a:rPr>
              <a:t>виявлення факту подання недостовірної інформації</a:t>
            </a: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 або неповідомлення про зміну обставин, які впливають на призначення грошової допом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2e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Надміру виплачена сума допомоги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внаслідок подання документів з недостовірними відомостями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овертаються на вимогу органу соціального захисту населення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 разі відмови щодо добровільного повернення надміру перерахованих сум допомоги вони стягуються у судовому поряд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E:\!!!!Копил_сімя\копил.png"/>
          <p:cNvPicPr/>
          <p:nvPr/>
        </p:nvPicPr>
        <p:blipFill>
          <a:blip r:embed="rId5"/>
          <a:srcRect l="8081" t="0" r="0" b="0"/>
          <a:stretch/>
        </p:blipFill>
        <p:spPr>
          <a:xfrm>
            <a:off x="0" y="0"/>
            <a:ext cx="9072720" cy="10526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3"/>
          <p:cNvSpPr/>
          <p:nvPr/>
        </p:nvSpPr>
        <p:spPr>
          <a:xfrm>
            <a:off x="0" y="218160"/>
            <a:ext cx="87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8f8ee"/>
                </a:solidFill>
                <a:latin typeface="Arial"/>
              </a:rPr>
              <a:t>Виплата допомоги припиняється з наступного місяц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омера слайда 1"/>
          <p:cNvSpPr/>
          <p:nvPr/>
        </p:nvSpPr>
        <p:spPr>
          <a:xfrm>
            <a:off x="8459640" y="623736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B85F-1B9F-4545-A8FE-7ADBCACE68FF}" type="slidenum">
              <a:rPr b="1" i="1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8"/>
          <p:cNvSpPr/>
          <p:nvPr/>
        </p:nvSpPr>
        <p:spPr>
          <a:xfrm>
            <a:off x="324000" y="1773360"/>
            <a:ext cx="8496000" cy="4824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E:\!!!!Копил_сімя\копил.png"/>
          <p:cNvPicPr/>
          <p:nvPr/>
        </p:nvPicPr>
        <p:blipFill>
          <a:blip r:embed="rId1"/>
          <a:srcRect l="8081" t="0" r="0" b="0"/>
          <a:stretch/>
        </p:blipFill>
        <p:spPr>
          <a:xfrm>
            <a:off x="0" y="0"/>
            <a:ext cx="9072720" cy="1484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2"/>
          <p:cNvSpPr/>
          <p:nvPr/>
        </p:nvSpPr>
        <p:spPr>
          <a:xfrm>
            <a:off x="538200" y="182520"/>
            <a:ext cx="824220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Місце для номера слайда 1"/>
          <p:cNvSpPr/>
          <p:nvPr/>
        </p:nvSpPr>
        <p:spPr>
          <a:xfrm>
            <a:off x="8675640" y="6308640"/>
            <a:ext cx="36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BCD3-0484-4131-AB26-0D5DAA19FAE7}" type="slidenum">
              <a:rPr b="1" i="1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179280" y="333360"/>
            <a:ext cx="859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Облік осіб, які переміщуються з тимчасово окупованої території України та районів проведення антитерористичної опера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3708360" y="2421000"/>
            <a:ext cx="5251320" cy="22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Постанова Кабінету Міністрів України від 1 жовтня 2014 року  № 5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"Про запровадження обліку осіб, які переміщуються з тимчасово окупованої території України та районів проведення антитерористичної операції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E:\!!!!Копил_сімя\копил.png"/>
          <p:cNvPicPr/>
          <p:nvPr/>
        </p:nvPicPr>
        <p:blipFill>
          <a:blip r:embed="rId1"/>
          <a:srcRect l="8081" t="0" r="0" b="0"/>
          <a:stretch/>
        </p:blipFill>
        <p:spPr>
          <a:xfrm>
            <a:off x="0" y="115920"/>
            <a:ext cx="9072720" cy="12002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539640" y="189000"/>
            <a:ext cx="82425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кутник 1"/>
          <p:cNvSpPr/>
          <p:nvPr/>
        </p:nvSpPr>
        <p:spPr>
          <a:xfrm>
            <a:off x="468360" y="1268280"/>
            <a:ext cx="849636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. Запроваджується облік осіб, які переміщую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2. Затверджується  Порядок оформлення і видачі довідки про взяття на облік особи та форма цієї довід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3. Забезпечується створення та ведення Єдиної інформаційної бази даних про взятих на облік осіб, які переміщую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99ff"/>
                </a:solidFill>
                <a:latin typeface="Arial"/>
              </a:rPr>
              <a:t>Метою запровадження обліку переміщених осіб є отримання достовірної інформації про категорії, потреби та кількість переміщених осіб в цілому по Україні.</a:t>
            </a:r>
            <a:r>
              <a:rPr b="0" i="1" lang="uk-UA" sz="18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395280" y="260280"/>
            <a:ext cx="470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8f8ee"/>
                </a:solidFill>
                <a:latin typeface="Arial"/>
              </a:rPr>
              <a:t>Урядовим рішенням</a:t>
            </a:r>
            <a:r>
              <a:rPr b="1" lang="uk-UA" sz="2000" spc="-1" strike="noStrike">
                <a:solidFill>
                  <a:srgbClr val="f8f8ee"/>
                </a:solidFill>
                <a:latin typeface="Arial"/>
                <a:ea typeface="ＭＳ Ｐ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2627280" y="5013360"/>
            <a:ext cx="6334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Довідка є документом, який видається  громадянам України, іноземцям та особам без громадянства, які постійно проживають на території України, особам, які переміщуються  з тимчасово окупованої території та районів проведення антитерористичної операці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омера слайда 1"/>
          <p:cNvSpPr/>
          <p:nvPr/>
        </p:nvSpPr>
        <p:spPr>
          <a:xfrm>
            <a:off x="8675640" y="6308640"/>
            <a:ext cx="36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4B44-EA4A-42A4-886A-DDD5B57ADE2C}" type="slidenum">
              <a:rPr b="1" i="1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8"/>
          <p:cNvSpPr/>
          <p:nvPr/>
        </p:nvSpPr>
        <p:spPr>
          <a:xfrm>
            <a:off x="179280" y="1413000"/>
            <a:ext cx="8785440" cy="544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E:\!!!!Копил_сімя\копил.png"/>
          <p:cNvPicPr/>
          <p:nvPr/>
        </p:nvPicPr>
        <p:blipFill>
          <a:blip r:embed="rId1"/>
          <a:srcRect l="8081" t="0" r="0" b="0"/>
          <a:stretch/>
        </p:blipFill>
        <p:spPr>
          <a:xfrm>
            <a:off x="0" y="115920"/>
            <a:ext cx="9072720" cy="12002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538200" y="182520"/>
            <a:ext cx="824220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250920" y="229320"/>
            <a:ext cx="829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Для отримання довідки особа, яка переміщується звертається  із заявою про взяття на облі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омера слайда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C26D-5447-458D-A5E7-BA1827C0E34C}" type="slidenum">
              <a:rPr b="1" i="1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 сполучна лінія 2"/>
          <p:cNvSpPr/>
          <p:nvPr/>
        </p:nvSpPr>
        <p:spPr>
          <a:xfrm>
            <a:off x="0" y="4076640"/>
            <a:ext cx="9144000" cy="0"/>
          </a:xfrm>
          <a:prstGeom prst="line">
            <a:avLst/>
          </a:prstGeom>
          <a:ln w="475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кутник 4"/>
          <p:cNvSpPr/>
          <p:nvPr/>
        </p:nvSpPr>
        <p:spPr>
          <a:xfrm>
            <a:off x="3348000" y="4076640"/>
            <a:ext cx="23875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о посадової особи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уповноваженого органу, яка залучена в установленому порядку до участі в роботі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егіонального штаб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кутник 6"/>
          <p:cNvSpPr/>
          <p:nvPr/>
        </p:nvSpPr>
        <p:spPr>
          <a:xfrm>
            <a:off x="6516720" y="4076640"/>
            <a:ext cx="28083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о уповноважених осіб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(працівники житлово-експлуатаційних організацій або уповноважені особи , сільських і селищних рад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що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дійснюють відвідування місць проживання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осіб, які переміщують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кутник 10"/>
          <p:cNvSpPr/>
          <p:nvPr/>
        </p:nvSpPr>
        <p:spPr>
          <a:xfrm>
            <a:off x="250920" y="4076640"/>
            <a:ext cx="27194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труктурного підрозділу з питань соціального захисту населення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районних, районних у м. Києві держадміністрацій, виконавчих органів міських, районних у містах рад  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(далі уповноважений орга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2"/>
          <a:srcRect l="40477" t="31079" r="48100" b="27025"/>
          <a:stretch/>
        </p:blipFill>
        <p:spPr>
          <a:xfrm>
            <a:off x="7451640" y="2421000"/>
            <a:ext cx="690480" cy="1712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3"/>
          <a:srcRect l="28093" t="29728" r="58575" b="31079"/>
          <a:stretch/>
        </p:blipFill>
        <p:spPr>
          <a:xfrm>
            <a:off x="826920" y="2492280"/>
            <a:ext cx="839880" cy="1666800"/>
          </a:xfrm>
          <a:prstGeom prst="rect">
            <a:avLst/>
          </a:prstGeom>
          <a:ln w="0">
            <a:noFill/>
          </a:ln>
        </p:spPr>
      </p:pic>
      <p:sp>
        <p:nvSpPr>
          <p:cNvPr id="69" name="Стрілка вниз 11"/>
          <p:cNvSpPr/>
          <p:nvPr/>
        </p:nvSpPr>
        <p:spPr>
          <a:xfrm rot="4218000">
            <a:off x="1977120" y="1415160"/>
            <a:ext cx="1253880" cy="2255760"/>
          </a:xfrm>
          <a:prstGeom prst="downArrow">
            <a:avLst>
              <a:gd name="adj1" fmla="val 50000"/>
              <a:gd name="adj2" fmla="val 47749"/>
            </a:avLst>
          </a:prstGeom>
          <a:gradFill rotWithShape="0">
            <a:gsLst>
              <a:gs pos="0">
                <a:srgbClr val="ffffff"/>
              </a:gs>
              <a:gs pos="100000">
                <a:srgbClr val="bde0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ілка вниз 28"/>
          <p:cNvSpPr/>
          <p:nvPr/>
        </p:nvSpPr>
        <p:spPr>
          <a:xfrm rot="17538600">
            <a:off x="5791680" y="1345320"/>
            <a:ext cx="1254240" cy="2252520"/>
          </a:xfrm>
          <a:prstGeom prst="downArrow">
            <a:avLst>
              <a:gd name="adj1" fmla="val 50000"/>
              <a:gd name="adj2" fmla="val 47700"/>
            </a:avLst>
          </a:prstGeom>
          <a:gradFill rotWithShape="0">
            <a:gsLst>
              <a:gs pos="0">
                <a:srgbClr val="ffffff"/>
              </a:gs>
              <a:gs pos="100000">
                <a:srgbClr val="bde0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трілка вниз 29"/>
          <p:cNvSpPr/>
          <p:nvPr/>
        </p:nvSpPr>
        <p:spPr>
          <a:xfrm>
            <a:off x="3949560" y="1982880"/>
            <a:ext cx="1157400" cy="1581120"/>
          </a:xfrm>
          <a:prstGeom prst="downArrow">
            <a:avLst>
              <a:gd name="adj1" fmla="val 50000"/>
              <a:gd name="adj2" fmla="val 51703"/>
            </a:avLst>
          </a:prstGeom>
          <a:gradFill rotWithShape="0">
            <a:gsLst>
              <a:gs pos="0">
                <a:srgbClr val="ffffff"/>
              </a:gs>
              <a:gs pos="100000">
                <a:srgbClr val="e0f6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4"/>
          <a:srcRect l="48657" t="25681" r="40039" b="32423"/>
          <a:stretch/>
        </p:blipFill>
        <p:spPr>
          <a:xfrm>
            <a:off x="4211640" y="2349360"/>
            <a:ext cx="722160" cy="18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5"/>
          <a:stretch/>
        </p:blipFill>
        <p:spPr>
          <a:xfrm>
            <a:off x="3635280" y="907920"/>
            <a:ext cx="1890720" cy="1766880"/>
          </a:xfrm>
          <a:prstGeom prst="rect">
            <a:avLst/>
          </a:prstGeom>
          <a:ln w="0">
            <a:noFill/>
          </a:ln>
        </p:spPr>
      </p:pic>
      <p:sp>
        <p:nvSpPr>
          <p:cNvPr id="74" name="TextBox 13"/>
          <p:cNvSpPr/>
          <p:nvPr/>
        </p:nvSpPr>
        <p:spPr>
          <a:xfrm>
            <a:off x="3780000" y="148428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ереміщені осо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8" descr="E:\!!!!Копил_сімя\копил.png"/>
          <p:cNvPicPr/>
          <p:nvPr/>
        </p:nvPicPr>
        <p:blipFill>
          <a:blip r:embed="rId1"/>
          <a:srcRect l="8081" t="0" r="0" b="0"/>
          <a:stretch/>
        </p:blipFill>
        <p:spPr>
          <a:xfrm>
            <a:off x="0" y="115920"/>
            <a:ext cx="9072720" cy="12002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2"/>
          <p:cNvSpPr/>
          <p:nvPr/>
        </p:nvSpPr>
        <p:spPr>
          <a:xfrm>
            <a:off x="538200" y="182520"/>
            <a:ext cx="824220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0" y="251280"/>
            <a:ext cx="905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Заява про взяття на облік повинна містити таку інформацію про заявни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2411280" y="2205000"/>
            <a:ext cx="505080" cy="432000"/>
          </a:xfrm>
          <a:custGeom>
            <a:avLst/>
            <a:gdLst>
              <a:gd name="textAreaLeft" fmla="*/ 63000 w 505080"/>
              <a:gd name="textAreaRight" fmla="*/ 442080 w 50508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5219640" y="2205000"/>
            <a:ext cx="504720" cy="432000"/>
          </a:xfrm>
          <a:custGeom>
            <a:avLst/>
            <a:gdLst>
              <a:gd name="textAreaLeft" fmla="*/ 63000 w 504720"/>
              <a:gd name="textAreaRight" fmla="*/ 441720 w 50472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 rot="10800000">
            <a:off x="5724000" y="4005000"/>
            <a:ext cx="505080" cy="431640"/>
          </a:xfrm>
          <a:custGeom>
            <a:avLst/>
            <a:gdLst>
              <a:gd name="textAreaLeft" fmla="*/ 63000 w 505080"/>
              <a:gd name="textAreaRight" fmla="*/ 442080 w 50508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 rot="10800000">
            <a:off x="2700360" y="3933720"/>
            <a:ext cx="504720" cy="432000"/>
          </a:xfrm>
          <a:custGeom>
            <a:avLst/>
            <a:gdLst>
              <a:gd name="textAreaLeft" fmla="*/ 63000 w 504720"/>
              <a:gd name="textAreaRight" fmla="*/ 441720 w 50472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"/>
          <p:cNvSpPr/>
          <p:nvPr/>
        </p:nvSpPr>
        <p:spPr>
          <a:xfrm rot="5400000">
            <a:off x="1150560" y="4978080"/>
            <a:ext cx="505080" cy="432000"/>
          </a:xfrm>
          <a:custGeom>
            <a:avLst/>
            <a:gdLst>
              <a:gd name="textAreaLeft" fmla="*/ 63000 w 505080"/>
              <a:gd name="textAreaRight" fmla="*/ 442080 w 50508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1"/>
          <p:cNvSpPr/>
          <p:nvPr/>
        </p:nvSpPr>
        <p:spPr>
          <a:xfrm>
            <a:off x="7236000" y="2205000"/>
            <a:ext cx="504720" cy="432000"/>
          </a:xfrm>
          <a:custGeom>
            <a:avLst/>
            <a:gdLst>
              <a:gd name="textAreaLeft" fmla="*/ 63000 w 504720"/>
              <a:gd name="textAreaRight" fmla="*/ 441720 w 50472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2"/>
          <p:cNvSpPr/>
          <p:nvPr/>
        </p:nvSpPr>
        <p:spPr>
          <a:xfrm rot="5400000">
            <a:off x="8280000" y="3105000"/>
            <a:ext cx="504720" cy="431640"/>
          </a:xfrm>
          <a:custGeom>
            <a:avLst/>
            <a:gdLst>
              <a:gd name="textAreaLeft" fmla="*/ 63000 w 504720"/>
              <a:gd name="textAreaRight" fmla="*/ 441720 w 50472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3"/>
          <p:cNvSpPr/>
          <p:nvPr/>
        </p:nvSpPr>
        <p:spPr>
          <a:xfrm>
            <a:off x="2987640" y="5734080"/>
            <a:ext cx="504720" cy="431640"/>
          </a:xfrm>
          <a:custGeom>
            <a:avLst/>
            <a:gdLst>
              <a:gd name="textAreaLeft" fmla="*/ 63000 w 504720"/>
              <a:gd name="textAreaRight" fmla="*/ 441720 w 50472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4"/>
          <p:cNvSpPr/>
          <p:nvPr/>
        </p:nvSpPr>
        <p:spPr>
          <a:xfrm>
            <a:off x="179280" y="1916280"/>
            <a:ext cx="2087640" cy="1152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3e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1. Прізвище, ім'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по батькові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5"/>
          <p:cNvSpPr/>
          <p:nvPr/>
        </p:nvSpPr>
        <p:spPr>
          <a:xfrm>
            <a:off x="2987640" y="1916280"/>
            <a:ext cx="2087640" cy="115236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f3e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2. Громадянст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(підданство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6"/>
          <p:cNvSpPr/>
          <p:nvPr/>
        </p:nvSpPr>
        <p:spPr>
          <a:xfrm>
            <a:off x="5867280" y="1916280"/>
            <a:ext cx="1297080" cy="11523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3e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3. Да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та місц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народженн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7"/>
          <p:cNvSpPr/>
          <p:nvPr/>
        </p:nvSpPr>
        <p:spPr>
          <a:xfrm>
            <a:off x="6443640" y="3573360"/>
            <a:ext cx="2448000" cy="151308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3e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5.Відомості пр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склад сім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ї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у тому числі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про  неповнолітніх осіб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які не прибули раз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із заявник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8"/>
          <p:cNvSpPr/>
          <p:nvPr/>
        </p:nvSpPr>
        <p:spPr>
          <a:xfrm>
            <a:off x="3419640" y="3500280"/>
            <a:ext cx="2087280" cy="1440000"/>
          </a:xfrm>
          <a:prstGeom prst="roundRect">
            <a:avLst>
              <a:gd name="adj" fmla="val 16667"/>
            </a:avLst>
          </a:prstGeom>
          <a:solidFill>
            <a:srgbClr val="339933"/>
          </a:solidFill>
          <a:ln w="9360">
            <a:solidFill>
              <a:srgbClr val="f3e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Відомості  пр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Зареєстроване  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фактичне  місц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проживанн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9"/>
          <p:cNvSpPr/>
          <p:nvPr/>
        </p:nvSpPr>
        <p:spPr>
          <a:xfrm>
            <a:off x="468360" y="3500280"/>
            <a:ext cx="2087640" cy="136872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f3e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7.Адреса, за яко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з  особою мож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відбутися  офіційн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листуванн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або вручення офіційної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кореспонденці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0"/>
          <p:cNvSpPr/>
          <p:nvPr/>
        </p:nvSpPr>
        <p:spPr>
          <a:xfrm>
            <a:off x="7885080" y="1844640"/>
            <a:ext cx="1152720" cy="11527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3e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4. Стать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1"/>
          <p:cNvSpPr/>
          <p:nvPr/>
        </p:nvSpPr>
        <p:spPr>
          <a:xfrm>
            <a:off x="684360" y="5516640"/>
            <a:ext cx="2087280" cy="1152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3e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8. Прізвище, ім'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по батькові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2"/>
          <p:cNvSpPr/>
          <p:nvPr/>
        </p:nvSpPr>
        <p:spPr>
          <a:xfrm>
            <a:off x="3851280" y="5445000"/>
            <a:ext cx="2087640" cy="1152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3e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9.Обставин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що спричини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переміщенн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3"/>
          <p:cNvSpPr/>
          <p:nvPr/>
        </p:nvSpPr>
        <p:spPr>
          <a:xfrm>
            <a:off x="6300720" y="5661000"/>
            <a:ext cx="504720" cy="432000"/>
          </a:xfrm>
          <a:custGeom>
            <a:avLst/>
            <a:gdLst>
              <a:gd name="textAreaLeft" fmla="*/ 63000 w 504720"/>
              <a:gd name="textAreaRight" fmla="*/ 441720 w 50472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омера слайда 1"/>
          <p:cNvSpPr/>
          <p:nvPr/>
        </p:nvSpPr>
        <p:spPr>
          <a:xfrm>
            <a:off x="8604360" y="623736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6AA3-7CEB-423E-8229-EF8C1680709E}" type="slidenum">
              <a:rPr b="1" i="1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8"/>
          <p:cNvSpPr/>
          <p:nvPr/>
        </p:nvSpPr>
        <p:spPr>
          <a:xfrm>
            <a:off x="179280" y="476280"/>
            <a:ext cx="8661600" cy="568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аявник дає згоду на обробку, використання, зберігання його персональних даних та персональних даних  неповнолітніх осіб, які переміщуються разом з н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Інформація щодо персональних даних внутрішньо переміщених осіб  </a:t>
            </a:r>
            <a:r>
              <a:rPr b="1" lang="uk-UA" sz="1800" spc="-1" strike="noStrike">
                <a:solidFill>
                  <a:srgbClr val="0070c0"/>
                </a:solidFill>
                <a:latin typeface="Arial"/>
              </a:rPr>
              <a:t>може передаватися до агенцій  ООН та Міжнародного Комітету Червоного Хреста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, за згодою заявн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38200" y="182520"/>
            <a:ext cx="824220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омера слайда 1"/>
          <p:cNvSpPr/>
          <p:nvPr/>
        </p:nvSpPr>
        <p:spPr>
          <a:xfrm>
            <a:off x="8647200" y="62485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6D2C-5C35-4EF1-ADCE-57CCC4F19BF1}" type="slidenum">
              <a:rPr b="1" i="1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Схема 7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3744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E:\!!!!Копил_сімя\копил.png"/>
          <p:cNvPicPr/>
          <p:nvPr/>
        </p:nvPicPr>
        <p:blipFill>
          <a:blip r:embed="rId2"/>
          <a:srcRect l="8081" t="0" r="0" b="0"/>
          <a:stretch/>
        </p:blipFill>
        <p:spPr>
          <a:xfrm>
            <a:off x="0" y="0"/>
            <a:ext cx="9039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E:\!!!!Копил_сімя\копил.png"/>
          <p:cNvPicPr/>
          <p:nvPr/>
        </p:nvPicPr>
        <p:blipFill>
          <a:blip r:embed="rId1"/>
          <a:srcRect l="8081" t="0" r="0" b="0"/>
          <a:stretch/>
        </p:blipFill>
        <p:spPr>
          <a:xfrm>
            <a:off x="71280" y="44280"/>
            <a:ext cx="9072720" cy="12002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538200" y="182520"/>
            <a:ext cx="824220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611280" y="33228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Разом із заявою внутрішньо переміщена особа подає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омера слайда 1"/>
          <p:cNvSpPr/>
          <p:nvPr/>
        </p:nvSpPr>
        <p:spPr>
          <a:xfrm>
            <a:off x="8604360" y="623736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B3C8-6A9E-4C8B-AC9E-B62307123212}" type="slidenum">
              <a:rPr b="1" i="1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7"/>
          <p:cNvSpPr/>
          <p:nvPr/>
        </p:nvSpPr>
        <p:spPr>
          <a:xfrm>
            <a:off x="684360" y="1341360"/>
            <a:ext cx="8135640" cy="42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Arial"/>
              </a:rPr>
              <a:t>громадянин України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– паспорт громадянина України або інший документ, що посвідчує особу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Arial"/>
              </a:rPr>
              <a:t>іноземець або особа без громадянства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– паспортний документ,  посвідку на постійне проживання, або інший документ, що посвідчує особ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У разі втрати або викрадення документів, що посвідчують особу, внутрішньо переміщена особа повідомляє про це </a:t>
            </a:r>
            <a:r>
              <a:rPr b="1" i="1" lang="uk-UA" sz="1800" spc="-1" strike="noStrike">
                <a:solidFill>
                  <a:srgbClr val="0070c0"/>
                </a:solidFill>
                <a:latin typeface="Arial"/>
              </a:rPr>
              <a:t>територіальні підрозділи ДМС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за місцем перебування, які в одноденний строк видають тимчасове посвідчення, що підтверджує особу громадянина України, іноземця або особу без громадян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8"/>
          <p:cNvSpPr/>
          <p:nvPr/>
        </p:nvSpPr>
        <p:spPr>
          <a:xfrm>
            <a:off x="0" y="-171360"/>
            <a:ext cx="9144000" cy="7029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E:\!!!!Копил_сімя\копил.png"/>
          <p:cNvPicPr/>
          <p:nvPr/>
        </p:nvPicPr>
        <p:blipFill>
          <a:blip r:embed="rId1"/>
          <a:srcRect l="8081" t="0" r="0" b="0"/>
          <a:stretch/>
        </p:blipFill>
        <p:spPr>
          <a:xfrm>
            <a:off x="0" y="0"/>
            <a:ext cx="8893080" cy="1197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9"/>
          <p:cNvSpPr/>
          <p:nvPr/>
        </p:nvSpPr>
        <p:spPr>
          <a:xfrm>
            <a:off x="395280" y="259560"/>
            <a:ext cx="829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Єдина інформаційна база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омера слайда 1"/>
          <p:cNvSpPr/>
          <p:nvPr/>
        </p:nvSpPr>
        <p:spPr>
          <a:xfrm>
            <a:off x="8604360" y="623736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5F13-0E19-47AE-B884-2297AE5A15EC}" type="slidenum">
              <a:rPr b="1" i="1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11"/>
          <p:cNvSpPr/>
          <p:nvPr/>
        </p:nvSpPr>
        <p:spPr>
          <a:xfrm>
            <a:off x="1187280" y="2133720"/>
            <a:ext cx="2571840" cy="2232000"/>
          </a:xfrm>
          <a:prstGeom prst="ellipse">
            <a:avLst/>
          </a:prstGeom>
          <a:solidFill>
            <a:srgbClr val="666666"/>
          </a:solidFill>
          <a:ln w="38160">
            <a:solidFill>
              <a:srgbClr val="0000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12"/>
          <p:cNvSpPr/>
          <p:nvPr/>
        </p:nvSpPr>
        <p:spPr>
          <a:xfrm>
            <a:off x="1476360" y="2349360"/>
            <a:ext cx="1989000" cy="1798920"/>
          </a:xfrm>
          <a:prstGeom prst="ellipse">
            <a:avLst/>
          </a:prstGeom>
          <a:solidFill>
            <a:srgbClr val="9999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овне охопл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3"/>
          <p:cNvSpPr/>
          <p:nvPr/>
        </p:nvSpPr>
        <p:spPr>
          <a:xfrm>
            <a:off x="4716360" y="2133720"/>
            <a:ext cx="408492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 метою обліку  осіб, які переміщуються, уповноважений орган веде </a:t>
            </a:r>
            <a:r>
              <a:rPr b="1" lang="uk-UA" sz="1800" spc="-1" strike="noStrike">
                <a:solidFill>
                  <a:srgbClr val="0070c0"/>
                </a:solidFill>
                <a:latin typeface="Arial"/>
              </a:rPr>
              <a:t>Єдину інформаційну базу даних про взятих на облік осіб, які переміщуються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 тимчасово окупованої території України та районів проведення антитерористичної операції, держателем якої є Мінсоцполі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C:\Users\LG\Downloads\Pr\ІLLUSTRATION\Мама коляска інвалід.png"/>
          <p:cNvPicPr/>
          <p:nvPr/>
        </p:nvPicPr>
        <p:blipFill>
          <a:blip r:embed="rId2"/>
          <a:stretch/>
        </p:blipFill>
        <p:spPr>
          <a:xfrm>
            <a:off x="361800" y="3933720"/>
            <a:ext cx="901800" cy="109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E:\!!!!Преза\пенсіонери.png"/>
          <p:cNvPicPr/>
          <p:nvPr/>
        </p:nvPicPr>
        <p:blipFill>
          <a:blip r:embed="rId3"/>
          <a:stretch/>
        </p:blipFill>
        <p:spPr>
          <a:xfrm>
            <a:off x="1258920" y="4581360"/>
            <a:ext cx="874800" cy="1325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E:\Президентськ апреза\9-07.png"/>
          <p:cNvPicPr/>
          <p:nvPr/>
        </p:nvPicPr>
        <p:blipFill>
          <a:blip r:embed="rId4"/>
          <a:srcRect l="32345" t="24130" r="28032" b="11430"/>
          <a:stretch/>
        </p:blipFill>
        <p:spPr>
          <a:xfrm>
            <a:off x="3708360" y="3933720"/>
            <a:ext cx="905040" cy="1130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C:\Users\LG\Downloads\Pr\ІLLUSTRATION\Контури\happy-family_21164983_мікро.jpg"/>
          <p:cNvPicPr/>
          <p:nvPr/>
        </p:nvPicPr>
        <p:blipFill>
          <a:blip r:embed="rId5"/>
          <a:stretch/>
        </p:blipFill>
        <p:spPr>
          <a:xfrm>
            <a:off x="2567160" y="4730760"/>
            <a:ext cx="10476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E:\!!!!Копил_сімя\копил.png"/>
          <p:cNvPicPr/>
          <p:nvPr/>
        </p:nvPicPr>
        <p:blipFill>
          <a:blip r:embed="rId1"/>
          <a:srcRect l="8081" t="0" r="0" b="0"/>
          <a:stretch/>
        </p:blipFill>
        <p:spPr>
          <a:xfrm>
            <a:off x="71280" y="0"/>
            <a:ext cx="9072720" cy="19191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538200" y="182520"/>
            <a:ext cx="824220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250920" y="403920"/>
            <a:ext cx="902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8f8ee"/>
                </a:solidFill>
                <a:latin typeface="Arial"/>
              </a:rPr>
              <a:t>До Єдиної інформаційної бази включаються такі відомості про внутрішньо переміщену особ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9"/>
          <p:cNvSpPr/>
          <p:nvPr/>
        </p:nvSpPr>
        <p:spPr>
          <a:xfrm>
            <a:off x="611280" y="1989000"/>
            <a:ext cx="8169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. Прізвище, ім’я, по батькові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. Громадянство (підданств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3. Дата та місце народжен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4. Ста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5. Паспортні дані (номер, серія, дата та ким виданий паспорт громадянина України (дані іншого документа, що посвідчує особу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6. Відомості про внутрішньо переміщених осіб, які не досягли 18-річного віку і прибули разом із заявник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7. Відомості про зареєстроване та фактичне місце проживан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4427640" y="2060640"/>
            <a:ext cx="2141280" cy="164124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омера слайда 1"/>
          <p:cNvSpPr/>
          <p:nvPr/>
        </p:nvSpPr>
        <p:spPr>
          <a:xfrm>
            <a:off x="8604360" y="623736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E543-E8AD-48AD-A98F-729095337D07}" type="slidenum">
              <a:rPr b="1" i="1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5T03:43:35Z</dcterms:created>
  <dc:creator>mushinin</dc:creator>
  <dc:description/>
  <dc:language>en-US</dc:language>
  <cp:lastModifiedBy>User</cp:lastModifiedBy>
  <dcterms:modified xsi:type="dcterms:W3CDTF">2014-10-15T10:53:28Z</dcterms:modified>
  <cp:revision>64</cp:revision>
  <dc:subject/>
  <dc:title>Слайд 1</dc:title>
</cp:coreProperties>
</file>