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027-36F5-47FA-8ECA-FE405C6F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FDB-63F1-42E7-B009-BD3282E9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1A5-CA0E-40F6-9304-EE01564D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8FB-6A0E-48AB-AE6E-AB1DD414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AB5-540D-40C6-8B13-2765BC31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486-510E-4B14-964D-A42CF92E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243-0B9D-4086-B423-F1ADFB4F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0B1-A54C-44C8-8E96-9D163F8B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101-CCCB-499E-B3B1-CF355B76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725-3829-49D4-8D87-50A0567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544-DB2E-4FF5-B2E8-4FC484F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64D-93BE-4738-9C52-D4CD2D19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09B9-1A4C-4E60-8E00-EE1F9FBAD26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40000" y="5661000"/>
            <a:ext cx="471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00000" y="2421000"/>
            <a:ext cx="777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апровадження обліку переміщених осі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та надання їм грошової допомог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ля покриття витрат на проживанн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в тому числі на оплату житлово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комунальних послу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71280" y="26028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79280" y="620640"/>
            <a:ext cx="85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ністерство соціальної політики Украї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39240" cy="765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1"/>
          <p:cNvSpPr/>
          <p:nvPr/>
        </p:nvSpPr>
        <p:spPr>
          <a:xfrm>
            <a:off x="8459640" y="6165720"/>
            <a:ext cx="5540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4ABC-2F47-4010-AD23-60229328D8FF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9"/>
          <p:cNvSpPr/>
          <p:nvPr/>
        </p:nvSpPr>
        <p:spPr>
          <a:xfrm>
            <a:off x="395280" y="765000"/>
            <a:ext cx="8386920" cy="551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. Адреса, за якою з особою може вестися офіційне листування або вручення офіційної кореспонденції, та номер телефо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9. Реєстраційний номер облікової картки платника податків у разі наявності інформ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. Наявність у будь-кого із членів сім'ї у володінні житлового приміщення, що знаходиться в регіонах, інших ніж тимчасово окупована територія України та райони проведення антитерористичної опер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. Відомості про місце роботи та час, з якого особа там працює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2. Відомості про житлові, соціальні, медичні, освітні та інші потреб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3. Дата видачі довідки та назва підрозділу, що її вида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. Інформація про задоволення заявлених потреб, надані послуги (випла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Для ідентифікації в Базі даних може міститись фотографічне зображення особи, яка переміщує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68360" y="0"/>
            <a:ext cx="8675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115920"/>
            <a:ext cx="907272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539640" y="189000"/>
            <a:ext cx="82425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611280" y="1268280"/>
            <a:ext cx="829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відка видається у день подання заяви, яка роздруковується на папері формату А4 і підписується посадовою особою уповноваженого орг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довідці проставляється печатка уповноваженого орг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домості про неповнолітніх осіб, які переміщуються разом з батьками або членами сім'ї, зазначаються у довідці одного із заявників. 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2268360" y="4724280"/>
            <a:ext cx="641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повноважені органи ведуть журнал обліку виданих дові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Довідка видається безо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299880" y="4862520"/>
            <a:ext cx="1979640" cy="1446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омера слайда 1"/>
          <p:cNvSpPr/>
          <p:nvPr/>
        </p:nvSpPr>
        <p:spPr>
          <a:xfrm>
            <a:off x="8532720" y="6237360"/>
            <a:ext cx="43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CB25-1769-4DEE-A33E-E5318C58F9B6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72720" cy="1268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250920" y="259560"/>
            <a:ext cx="829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дстави відмови у видачі довід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324000" y="4076640"/>
            <a:ext cx="86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разі зміни місця тимчасового перебування та звернення заявника за видачею довідки до іншого уповноваженого органу, а раніше видана довідка вилучається, про що вносяться відповідні зміни до Бази да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разі втрати або псування довідки уповноважений орган замість неї видає дублікат на підставі заяви особи, яка переміщує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24000" y="14842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) відсутні обставини, що спричинили внутрішнє переміщення особ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) заявник втратив документи, що посвідчують його особу та підтверджують громадянство України, до їх відновл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У випадку відмови у видачі довідки на вимогу заявника письмово повідомляються підстави такої відмови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1"/>
          <p:cNvSpPr/>
          <p:nvPr/>
        </p:nvSpPr>
        <p:spPr>
          <a:xfrm>
            <a:off x="8459640" y="623736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BBCC-CEE0-4F5A-B0F6-A99148AB9FE1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72720" cy="2495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50920" y="260280"/>
            <a:ext cx="85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ння грошової допомоги особам, які переміщуються з тимчасово окупованої території України та районів проведення антитерористичної операції, для покриття витрат на проживання, в тому числі на оплату житлово-комунальних по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108000" y="6308640"/>
            <a:ext cx="858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641760" y="2637000"/>
            <a:ext cx="525132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станова Кабінету Міністрів України від 1 жовтня 2014 року № 5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"Про надання щомісячної адресної допомоги особам, які переміщуються з тимчасово окупованої території України та районів проведення антитерористичної операції, для покриття витрат на проживання, в тому числі на оплату житлово-комунальних послуг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1"/>
          <p:cNvSpPr/>
          <p:nvPr/>
        </p:nvSpPr>
        <p:spPr>
          <a:xfrm>
            <a:off x="8388360" y="6237360"/>
            <a:ext cx="58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9975-FEF3-4F9F-97BF-EBB7B2C57C84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468360" y="1267200"/>
            <a:ext cx="7920000" cy="1313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Для покриття витрат на проживання, </a:t>
            </a:r>
            <a:br>
              <a:rPr sz="2000"/>
            </a:b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в тому числі на оплату житлово-комунальних послуг особам, які обліковані органами соціального захисту населення надається щомісячна грошова допом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68360" y="4797360"/>
            <a:ext cx="7991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гальна сума допомоги на сім</a:t>
            </a:r>
            <a:r>
              <a:rPr b="1" lang="ru-RU" sz="2000" spc="-1" strike="noStrike">
                <a:solidFill>
                  <a:srgbClr val="00002e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ю розраховується як сума розмірів допомоги на кожного члена сім</a:t>
            </a:r>
            <a:r>
              <a:rPr b="1" lang="ru-RU" sz="2000" spc="-1" strike="noStrike">
                <a:solidFill>
                  <a:srgbClr val="00002e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ї  та не може перевищувати </a:t>
            </a:r>
            <a:r>
              <a:rPr b="1" lang="uk-UA" sz="2400" spc="-1" strike="noStrike">
                <a:solidFill>
                  <a:srgbClr val="00002e"/>
                </a:solidFill>
                <a:latin typeface="Arial"/>
              </a:rPr>
              <a:t>2 400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грив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115280" y="2997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0409"/>
                </a:solidFill>
                <a:latin typeface="Arial"/>
              </a:rPr>
              <a:t>Розміри грошової допомоги</a:t>
            </a:r>
            <a:r>
              <a:rPr b="1" lang="uk-UA" sz="2400" spc="-1" strike="noStrike">
                <a:solidFill>
                  <a:srgbClr val="5e06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16000" y="3141720"/>
          <a:ext cx="6719760" cy="1371600"/>
        </p:xfrm>
        <a:graphic>
          <a:graphicData uri="http://schemas.openxmlformats.org/drawingml/2006/table">
            <a:tbl>
              <a:tblPr/>
              <a:tblGrid>
                <a:gridCol w="4896000"/>
                <a:gridCol w="1823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на одну особ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для непрацездатних</a:t>
                      </a:r>
                      <a:r>
                        <a:rPr b="0" lang="uk-UA" sz="20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 осі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84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для працездатних</a:t>
                      </a:r>
                      <a:r>
                        <a:rPr b="0" lang="uk-UA" sz="20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 осі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42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72720" cy="865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5"/>
          <p:cNvSpPr/>
          <p:nvPr/>
        </p:nvSpPr>
        <p:spPr>
          <a:xfrm>
            <a:off x="177120" y="18900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Розміри грошової допомог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1"/>
          <p:cNvSpPr/>
          <p:nvPr/>
        </p:nvSpPr>
        <p:spPr>
          <a:xfrm>
            <a:off x="8388360" y="6237360"/>
            <a:ext cx="58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95B9-A0C4-4782-B5B3-7B3BDC011AD6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413000"/>
            <a:ext cx="81360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Грошова допомога надається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особам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кі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обліковані структурними підрозділами соціального захисту населення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як особи, що переміщуються з тимчасово окупованої території України та районів проведення А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Допомога призначається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на термін не більше ніж 6 місяців </a:t>
            </a:r>
            <a:br>
              <a:rPr sz="2000"/>
            </a:b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 дня звернення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з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її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призначенням та виплачується по місяць зняття з такого обліку (</a:t>
            </a:r>
            <a:r>
              <a:rPr b="0" i="1" lang="uk-UA" sz="2000" spc="-1" strike="noStrike">
                <a:solidFill>
                  <a:srgbClr val="00002e"/>
                </a:solidFill>
                <a:latin typeface="Arial"/>
              </a:rPr>
              <a:t>включно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Допомога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призначається на сім‘ю та виплачується уповноваженій особі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- за умови наданн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їй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згоди від інших членів сім‘ї про виплату цій особі суми нарахованої допомог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Розмір отриманої грошової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допомоги не оподатковується </a:t>
            </a:r>
            <a:br>
              <a:rPr sz="2000"/>
            </a:b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і не враховується в сукупному доходу сім‘ї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при призначенні інших видів державної соціальної допом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E:\!!!!Копил_сімя\копил.png"/>
          <p:cNvPicPr/>
          <p:nvPr/>
        </p:nvPicPr>
        <p:blipFill>
          <a:blip r:embed="rId5"/>
          <a:srcRect l="8081" t="0" r="0" b="0"/>
          <a:stretch/>
        </p:blipFill>
        <p:spPr>
          <a:xfrm>
            <a:off x="0" y="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4920" y="18900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8f8ee"/>
                </a:solidFill>
                <a:latin typeface="Arial"/>
              </a:rPr>
              <a:t>Умови призначення допом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1"/>
          <p:cNvSpPr/>
          <p:nvPr/>
        </p:nvSpPr>
        <p:spPr>
          <a:xfrm>
            <a:off x="8388360" y="6237360"/>
            <a:ext cx="58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A227-28B3-4B61-BE39-3AB90212FB1E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95280" y="14115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Для призначення допомоги Уповноважений представник сім’ї звертається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до органу соціального захисту населення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 фактичним місцем проживання з заявою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, в якій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значаються відомості про всіх членів сім‘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4428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76400" y="236520"/>
            <a:ext cx="430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Заява на призначення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11280" y="2998800"/>
            <a:ext cx="806436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заяви додаю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я свідоцтва про одруження (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потреб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2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ї свідоцтв про народження дітей (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потреб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2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исьмова згода довільної форми про виплату грошової допомоги уповноваженому представнику сім’ї від інших членів сім’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2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а згода на обробку персональних да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1"/>
          <p:cNvSpPr/>
          <p:nvPr/>
        </p:nvSpPr>
        <p:spPr>
          <a:xfrm>
            <a:off x="8532720" y="6237360"/>
            <a:ext cx="43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F21-BCD2-4108-AB75-40F77CADCC5F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179280" y="1185120"/>
            <a:ext cx="87123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у володінні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житлове приміщення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, що знаходиться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в регіонах, інших ніж тимчасово окупована територія України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та райони А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у володінні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два і більше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транспортних засобів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,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що підлягають державній реєстрації та обліку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в Державтоінспекції (</a:t>
            </a:r>
            <a:r>
              <a:rPr b="0" i="1" lang="uk-UA" sz="2000" spc="-1" strike="noStrike">
                <a:solidFill>
                  <a:srgbClr val="00002e"/>
                </a:solidFill>
                <a:latin typeface="Arial"/>
              </a:rPr>
              <a:t>не враховуються засоби, придбані на пільгових умовах через уповноважені органи, а також вітчизняні транспортні засоби з терміном експлуатації понад 10 років та інші засоби з терміном експлуатації понад 15 років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на депозитному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банківському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рахунку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кошти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у розмірі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більшому ніж </a:t>
            </a:r>
            <a:r>
              <a:rPr b="1" lang="uk-UA" sz="2000" spc="-1" strike="noStrike">
                <a:solidFill>
                  <a:srgbClr val="00002e"/>
                </a:solidFill>
                <a:latin typeface="Arial Black"/>
              </a:rPr>
              <a:t>10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-кратний розмір прожиткового мінімуму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для працездатних осі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E:\!!!!Копил_сімя\копил.png"/>
          <p:cNvPicPr/>
          <p:nvPr/>
        </p:nvPicPr>
        <p:blipFill>
          <a:blip r:embed="rId4"/>
          <a:srcRect l="8081" t="0" r="0" b="0"/>
          <a:stretch/>
        </p:blipFill>
        <p:spPr>
          <a:xfrm>
            <a:off x="0" y="11592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179280" y="260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Допомога не призначається у разі, коли сім‘я ма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1"/>
          <p:cNvSpPr/>
          <p:nvPr/>
        </p:nvSpPr>
        <p:spPr>
          <a:xfrm>
            <a:off x="8459640" y="623736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B9A3-A369-499E-9D59-9E79E9BCF28D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68360" y="1197000"/>
            <a:ext cx="842472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помога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ля працездатних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членів сім’ї зменшується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а наступні два місяц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 50 відсотк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що во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algn="just"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працевлаштувалися протягом двох місяців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дня призначення виплати грошової допомоги,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тому числі за сприянням державної служби зайнят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algn="just"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ебувають в трудових відносинах з роботодавцями на тимчасово окупованій території України чи в районах проведення АТО, але фактично не працюю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що і після цього працездатна особа не працевлаштувалас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плата допомоги припиняється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оби працездатного віку, яким призначено допомогу зобов'язані у 3-денний строк повідомити управління соціального захисту про факт працевлашт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E:\!!!!Копил_сімя\копил.png"/>
          <p:cNvPicPr/>
          <p:nvPr/>
        </p:nvPicPr>
        <p:blipFill>
          <a:blip r:embed="rId3"/>
          <a:srcRect l="8081" t="0" r="0" b="0"/>
          <a:stretch/>
        </p:blipFill>
        <p:spPr>
          <a:xfrm>
            <a:off x="0" y="11592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246960" y="307800"/>
            <a:ext cx="48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Умови зменшення розміру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1"/>
          <p:cNvSpPr/>
          <p:nvPr/>
        </p:nvSpPr>
        <p:spPr>
          <a:xfrm>
            <a:off x="8459640" y="623736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C914-0FA4-44F5-8A00-3850AAA4475E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39640" y="1125360"/>
            <a:ext cx="820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відповідною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явою уповноваженого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представника сім’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 повідомленням державної служби зайнятості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про те,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що працездатні члени сім’ї у встановлений строк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не працевлаштувал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у разі скасування довідки про взяття на облік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внутрішньо переміщеної особ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виявлення факту подання недостовірної інформації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або неповідомлення про зміну обставин, які впливають на призначення грошової допом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дміру виплачена сума допомог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наслідок подання документів з недостовірними відомостя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вертаються на вимогу органу соціального захисту населе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щодо добровільного повернення надміру перерахованих сум допомоги вони стягуються у судовому по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E:\!!!!Копил_сімя\копил.png"/>
          <p:cNvPicPr/>
          <p:nvPr/>
        </p:nvPicPr>
        <p:blipFill>
          <a:blip r:embed="rId5"/>
          <a:srcRect l="8081" t="0" r="0" b="0"/>
          <a:stretch/>
        </p:blipFill>
        <p:spPr>
          <a:xfrm>
            <a:off x="0" y="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21816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Виплата допомоги припиняється з наступного місяц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1"/>
          <p:cNvSpPr/>
          <p:nvPr/>
        </p:nvSpPr>
        <p:spPr>
          <a:xfrm>
            <a:off x="8459640" y="623736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F73B-C9D9-4499-BE59-C589FA62ECDC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324000" y="1773360"/>
            <a:ext cx="8496000" cy="482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7272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омера слайда 1"/>
          <p:cNvSpPr/>
          <p:nvPr/>
        </p:nvSpPr>
        <p:spPr>
          <a:xfrm>
            <a:off x="8675640" y="630864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2641-BC50-4432-8090-A52498D50208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79280" y="333360"/>
            <a:ext cx="85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блік осіб, які переміщуються з тимчасово окупованої території України та районів проведення антитерористичної опе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708360" y="2421000"/>
            <a:ext cx="525132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станова Кабінету Міністрів України від 1 жовтня 2014 року  № 5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"Про запровадження обліку осіб, які переміщуються з тимчасово окупованої території України та районів проведення антитерористичної операції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11592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539640" y="189000"/>
            <a:ext cx="82425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кутник 1"/>
          <p:cNvSpPr/>
          <p:nvPr/>
        </p:nvSpPr>
        <p:spPr>
          <a:xfrm>
            <a:off x="468360" y="1268280"/>
            <a:ext cx="8496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 Запроваджується облік осіб, які переміщу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. Затверджується  Порядок оформлення і видачі довідки про взяття на облік особи та форма цієї довід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. Забезпечується створення та ведення Єдиної інформаційної бази даних про взятих на облік осіб, які переміщу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99ff"/>
                </a:solidFill>
                <a:latin typeface="Arial"/>
              </a:rPr>
              <a:t>Метою запровадження обліку переміщених осіб є отримання достовірної інформації про категорії, потреби та кількість переміщених осіб в цілому по Україні.</a:t>
            </a:r>
            <a:r>
              <a:rPr b="0" i="1" lang="uk-UA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95280" y="26028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Урядовим рішенням</a:t>
            </a:r>
            <a:r>
              <a:rPr b="1" lang="uk-UA" sz="2000" spc="-1" strike="noStrike">
                <a:solidFill>
                  <a:srgbClr val="f8f8ee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2627280" y="5013360"/>
            <a:ext cx="633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Довідка є документом, який видається  громадянам України, іноземцям та особам без громадянства, які постійно проживають на території України, особам, які переміщуються  з тимчасово окупованої території та районів проведення антитерористичної опера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омера слайда 1"/>
          <p:cNvSpPr/>
          <p:nvPr/>
        </p:nvSpPr>
        <p:spPr>
          <a:xfrm>
            <a:off x="8675640" y="630864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DE6-EC68-4206-B996-A8DD4D5DC94A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8"/>
          <p:cNvSpPr/>
          <p:nvPr/>
        </p:nvSpPr>
        <p:spPr>
          <a:xfrm>
            <a:off x="179280" y="1413000"/>
            <a:ext cx="8785440" cy="544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11592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50920" y="22932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ля отримання довідки особа, яка переміщується звертається  із заявою про взяття на облі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омера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501B-0CCE-4615-8F91-8F5BC41132EF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 сполучна лінія 2"/>
          <p:cNvSpPr/>
          <p:nvPr/>
        </p:nvSpPr>
        <p:spPr>
          <a:xfrm>
            <a:off x="0" y="4076640"/>
            <a:ext cx="9144000" cy="0"/>
          </a:xfrm>
          <a:prstGeom prst="line">
            <a:avLst/>
          </a:prstGeom>
          <a:ln w="475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кутник 4"/>
          <p:cNvSpPr/>
          <p:nvPr/>
        </p:nvSpPr>
        <p:spPr>
          <a:xfrm>
            <a:off x="3348000" y="4076640"/>
            <a:ext cx="2387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 посадової особ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уповноваженого органу, яка залучена в установленому порядку до участі в роботі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гіонального шта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кутник 6"/>
          <p:cNvSpPr/>
          <p:nvPr/>
        </p:nvSpPr>
        <p:spPr>
          <a:xfrm>
            <a:off x="6516720" y="4076640"/>
            <a:ext cx="28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 уповноважених осіб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працівники житлово-експлуатаційних організацій або уповноважені особи , сільських і селищних рад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що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дійснюють відвідування місць проживанн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сіб, які переміщую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кутник 10"/>
          <p:cNvSpPr/>
          <p:nvPr/>
        </p:nvSpPr>
        <p:spPr>
          <a:xfrm>
            <a:off x="250920" y="4076640"/>
            <a:ext cx="2719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уктурного підрозділу з питань соціального захисту населенн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айонних, районних у м. Києві держадміністрацій, виконавчих органів міських, районних у містах рад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(далі уповноважений орг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2"/>
          <a:srcRect l="40477" t="31079" r="48100" b="27025"/>
          <a:stretch/>
        </p:blipFill>
        <p:spPr>
          <a:xfrm>
            <a:off x="7451640" y="2421000"/>
            <a:ext cx="690480" cy="171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rcRect l="28093" t="29728" r="58575" b="31079"/>
          <a:stretch/>
        </p:blipFill>
        <p:spPr>
          <a:xfrm>
            <a:off x="826920" y="2492280"/>
            <a:ext cx="839880" cy="1666800"/>
          </a:xfrm>
          <a:prstGeom prst="rect">
            <a:avLst/>
          </a:prstGeom>
          <a:ln w="0">
            <a:noFill/>
          </a:ln>
        </p:spPr>
      </p:pic>
      <p:sp>
        <p:nvSpPr>
          <p:cNvPr id="69" name="Стрілка вниз 11"/>
          <p:cNvSpPr/>
          <p:nvPr/>
        </p:nvSpPr>
        <p:spPr>
          <a:xfrm rot="4218000">
            <a:off x="1977120" y="1415160"/>
            <a:ext cx="1253880" cy="2255760"/>
          </a:xfrm>
          <a:prstGeom prst="downArrow">
            <a:avLst>
              <a:gd name="adj1" fmla="val 50000"/>
              <a:gd name="adj2" fmla="val 47749"/>
            </a:avLst>
          </a:prstGeom>
          <a:gradFill rotWithShape="0">
            <a:gsLst>
              <a:gs pos="0">
                <a:srgbClr val="ffffff"/>
              </a:gs>
              <a:gs pos="100000">
                <a:srgbClr val="bde0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ілка вниз 28"/>
          <p:cNvSpPr/>
          <p:nvPr/>
        </p:nvSpPr>
        <p:spPr>
          <a:xfrm rot="17538600">
            <a:off x="5791680" y="1345320"/>
            <a:ext cx="1254240" cy="2252520"/>
          </a:xfrm>
          <a:prstGeom prst="downArrow">
            <a:avLst>
              <a:gd name="adj1" fmla="val 50000"/>
              <a:gd name="adj2" fmla="val 47700"/>
            </a:avLst>
          </a:prstGeom>
          <a:gradFill rotWithShape="0">
            <a:gsLst>
              <a:gs pos="0">
                <a:srgbClr val="ffffff"/>
              </a:gs>
              <a:gs pos="100000">
                <a:srgbClr val="bde0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ілка вниз 29"/>
          <p:cNvSpPr/>
          <p:nvPr/>
        </p:nvSpPr>
        <p:spPr>
          <a:xfrm>
            <a:off x="3949560" y="1982880"/>
            <a:ext cx="1157400" cy="1581120"/>
          </a:xfrm>
          <a:prstGeom prst="downArrow">
            <a:avLst>
              <a:gd name="adj1" fmla="val 50000"/>
              <a:gd name="adj2" fmla="val 51703"/>
            </a:avLst>
          </a:prstGeom>
          <a:gradFill rotWithShape="0">
            <a:gsLst>
              <a:gs pos="0">
                <a:srgbClr val="ffffff"/>
              </a:gs>
              <a:gs pos="100000">
                <a:srgbClr val="e0f6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48657" t="25681" r="40039" b="32423"/>
          <a:stretch/>
        </p:blipFill>
        <p:spPr>
          <a:xfrm>
            <a:off x="4211640" y="2349360"/>
            <a:ext cx="722160" cy="18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5"/>
          <a:stretch/>
        </p:blipFill>
        <p:spPr>
          <a:xfrm>
            <a:off x="3635280" y="907920"/>
            <a:ext cx="189072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3780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реміщені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11592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251280"/>
            <a:ext cx="905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ява про взяття на облік повинна містити таку інформацію про заявн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411280" y="2205000"/>
            <a:ext cx="505080" cy="432000"/>
          </a:xfrm>
          <a:custGeom>
            <a:avLst/>
            <a:gdLst>
              <a:gd name="textAreaLeft" fmla="*/ 63000 w 505080"/>
              <a:gd name="textAreaRight" fmla="*/ 442080 w 50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5219640" y="2205000"/>
            <a:ext cx="504720" cy="43200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0800000">
            <a:off x="5724000" y="4005000"/>
            <a:ext cx="505080" cy="431640"/>
          </a:xfrm>
          <a:custGeom>
            <a:avLst/>
            <a:gdLst>
              <a:gd name="textAreaLeft" fmla="*/ 63000 w 505080"/>
              <a:gd name="textAreaRight" fmla="*/ 442080 w 50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 rot="10800000">
            <a:off x="2700360" y="3933720"/>
            <a:ext cx="504720" cy="43200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 rot="5400000">
            <a:off x="1150560" y="4978080"/>
            <a:ext cx="505080" cy="432000"/>
          </a:xfrm>
          <a:custGeom>
            <a:avLst/>
            <a:gdLst>
              <a:gd name="textAreaLeft" fmla="*/ 63000 w 505080"/>
              <a:gd name="textAreaRight" fmla="*/ 442080 w 50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7236000" y="2205000"/>
            <a:ext cx="504720" cy="43200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 rot="5400000">
            <a:off x="8280000" y="3105000"/>
            <a:ext cx="504720" cy="43164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2987640" y="5734080"/>
            <a:ext cx="504720" cy="43164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179280" y="1916280"/>
            <a:ext cx="2087640" cy="1152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1. Прізвище, ім'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 батьков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2987640" y="1916280"/>
            <a:ext cx="2087640" cy="11523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2. Громадян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(піддан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5867280" y="191628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3. Да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та міс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народже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7"/>
          <p:cNvSpPr/>
          <p:nvPr/>
        </p:nvSpPr>
        <p:spPr>
          <a:xfrm>
            <a:off x="6443640" y="3573360"/>
            <a:ext cx="2448000" cy="1513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5.Відомості п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склад сі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ї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у тому числ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ро  неповнолітніх осіб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які не прибули ра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із заявн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3419640" y="3500280"/>
            <a:ext cx="2087280" cy="144000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ідомості  п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Зареєстроване 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фактичне  місц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рожива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9"/>
          <p:cNvSpPr/>
          <p:nvPr/>
        </p:nvSpPr>
        <p:spPr>
          <a:xfrm>
            <a:off x="468360" y="3500280"/>
            <a:ext cx="2087640" cy="1368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7.Адреса, за яко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з  особою мо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ідбутися  офіцій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листува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або вручення офіцій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кореспонден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7885080" y="1844640"/>
            <a:ext cx="1152720" cy="115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4. Ста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684360" y="5516640"/>
            <a:ext cx="20872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8. Прізвище, ім'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 батьков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3851280" y="5445000"/>
            <a:ext cx="2087640" cy="1152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9.Обставин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що спричин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ереміще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3"/>
          <p:cNvSpPr/>
          <p:nvPr/>
        </p:nvSpPr>
        <p:spPr>
          <a:xfrm>
            <a:off x="6300720" y="5661000"/>
            <a:ext cx="504720" cy="43200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1"/>
          <p:cNvSpPr/>
          <p:nvPr/>
        </p:nvSpPr>
        <p:spPr>
          <a:xfrm>
            <a:off x="8604360" y="623736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D74-F4D3-4E53-8010-26B4FBF993F6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8"/>
          <p:cNvSpPr/>
          <p:nvPr/>
        </p:nvSpPr>
        <p:spPr>
          <a:xfrm>
            <a:off x="179280" y="476280"/>
            <a:ext cx="8661600" cy="568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явник дає згоду на обробку, використання, зберігання його персональних даних та персональних даних  неповнолітніх осіб, які переміщуються разом з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формація щодо персональних даних внутрішньо переміщених осіб  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може передаватися до агенцій  ООН та Міжнародного Комітету Червоного Хрест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за згодою заяв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1"/>
          <p:cNvSpPr/>
          <p:nvPr/>
        </p:nvSpPr>
        <p:spPr>
          <a:xfrm>
            <a:off x="8647200" y="62485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F3C8-8CD2-4C95-A5ED-A4F50CE05BE0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хема 7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37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:\!!!!Копил_сімя\копил.png"/>
          <p:cNvPicPr/>
          <p:nvPr/>
        </p:nvPicPr>
        <p:blipFill>
          <a:blip r:embed="rId2"/>
          <a:srcRect l="8081" t="0" r="0" b="0"/>
          <a:stretch/>
        </p:blipFill>
        <p:spPr>
          <a:xfrm>
            <a:off x="0" y="0"/>
            <a:ext cx="9039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71280" y="4428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11280" y="332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Разом із заявою внутрішньо переміщена особа пода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1"/>
          <p:cNvSpPr/>
          <p:nvPr/>
        </p:nvSpPr>
        <p:spPr>
          <a:xfrm>
            <a:off x="8604360" y="623736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E881-634C-4BA2-BD33-4F5695C5AFEC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684360" y="1341360"/>
            <a:ext cx="813564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громадянин України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– паспорт громадянина України або інший документ, що посвідчує особ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іноземець або особа без громадянства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– паспортний документ,  посвідку на постійне проживання, або інший документ, що посвідчує осо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У разі втрати або викрадення документів, що посвідчують особу, внутрішньо переміщена особа повідомляє про це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територіальні підрозділи ДМС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місцем перебування, які в одноденний строк видають тимчасове посвідчення, що підтверджує особу громадянина України, іноземця або особу без громадя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8"/>
          <p:cNvSpPr/>
          <p:nvPr/>
        </p:nvSpPr>
        <p:spPr>
          <a:xfrm>
            <a:off x="0" y="-171360"/>
            <a:ext cx="9144000" cy="702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8893080" cy="1197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395280" y="259560"/>
            <a:ext cx="829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Єдина інформаційна база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1"/>
          <p:cNvSpPr/>
          <p:nvPr/>
        </p:nvSpPr>
        <p:spPr>
          <a:xfrm>
            <a:off x="8604360" y="623736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FCE5-3095-441A-9CBB-4EBF115A713F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1"/>
          <p:cNvSpPr/>
          <p:nvPr/>
        </p:nvSpPr>
        <p:spPr>
          <a:xfrm>
            <a:off x="1187280" y="2133720"/>
            <a:ext cx="2571840" cy="2232000"/>
          </a:xfrm>
          <a:prstGeom prst="ellipse">
            <a:avLst/>
          </a:prstGeom>
          <a:solidFill>
            <a:srgbClr val="666666"/>
          </a:solidFill>
          <a:ln w="3816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2"/>
          <p:cNvSpPr/>
          <p:nvPr/>
        </p:nvSpPr>
        <p:spPr>
          <a:xfrm>
            <a:off x="1476360" y="2349360"/>
            <a:ext cx="1989000" cy="1798920"/>
          </a:xfrm>
          <a:prstGeom prst="ellipse">
            <a:avLst/>
          </a:prstGeom>
          <a:solidFill>
            <a:srgbClr val="9999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вне охоп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4716360" y="2133720"/>
            <a:ext cx="40849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 метою обліку  осіб, які переміщуються, уповноважений орган веде 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Єдину інформаційну базу даних про взятих на облік осіб, які переміщуютьс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 тимчасово окупованої території України та районів проведення антитерористичної операції, держателем якої є Мінсоцполі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Users\LG\Downloads\Pr\ІLLUSTRATION\Мама коляска інвалід.png"/>
          <p:cNvPicPr/>
          <p:nvPr/>
        </p:nvPicPr>
        <p:blipFill>
          <a:blip r:embed="rId2"/>
          <a:stretch/>
        </p:blipFill>
        <p:spPr>
          <a:xfrm>
            <a:off x="361800" y="3933720"/>
            <a:ext cx="901800" cy="109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E:\!!!!Преза\пенсіонери.png"/>
          <p:cNvPicPr/>
          <p:nvPr/>
        </p:nvPicPr>
        <p:blipFill>
          <a:blip r:embed="rId3"/>
          <a:stretch/>
        </p:blipFill>
        <p:spPr>
          <a:xfrm>
            <a:off x="1258920" y="4581360"/>
            <a:ext cx="874800" cy="1325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E:\Президентськ апреза\9-07.png"/>
          <p:cNvPicPr/>
          <p:nvPr/>
        </p:nvPicPr>
        <p:blipFill>
          <a:blip r:embed="rId4"/>
          <a:srcRect l="32345" t="24130" r="28032" b="11430"/>
          <a:stretch/>
        </p:blipFill>
        <p:spPr>
          <a:xfrm>
            <a:off x="3708360" y="3933720"/>
            <a:ext cx="905040" cy="113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LG\Downloads\Pr\ІLLUSTRATION\Контури\happy-family_21164983_мікро.jpg"/>
          <p:cNvPicPr/>
          <p:nvPr/>
        </p:nvPicPr>
        <p:blipFill>
          <a:blip r:embed="rId5"/>
          <a:stretch/>
        </p:blipFill>
        <p:spPr>
          <a:xfrm>
            <a:off x="2567160" y="4730760"/>
            <a:ext cx="1047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71280" y="0"/>
            <a:ext cx="9072720" cy="1919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50920" y="403920"/>
            <a:ext cx="902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До Єдиної інформаційної бази включаються такі відомості про внутрішньо переміщену особ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9"/>
          <p:cNvSpPr/>
          <p:nvPr/>
        </p:nvSpPr>
        <p:spPr>
          <a:xfrm>
            <a:off x="611280" y="1989000"/>
            <a:ext cx="816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. Прізвище, ім’я, по батьков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Громадянство (піддан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. Дата та місце народж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. Ст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. Паспортні дані (номер, серія, дата та ким виданий паспорт громадянина України (дані іншого документа, що посвідчує особу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. Відомості про внутрішньо переміщених осіб, які не досягли 18-річного віку і прибули разом із заявн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. Відомості про зареєстроване та фактичне місце прожи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4427640" y="2060640"/>
            <a:ext cx="2141280" cy="1641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омера слайда 1"/>
          <p:cNvSpPr/>
          <p:nvPr/>
        </p:nvSpPr>
        <p:spPr>
          <a:xfrm>
            <a:off x="8604360" y="623736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28D8-B2A0-45A7-95EC-A5AA2C4F6037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03:43:35Z</dcterms:created>
  <dc:creator>mushinin</dc:creator>
  <dc:description/>
  <dc:language>en-US</dc:language>
  <cp:lastModifiedBy>User</cp:lastModifiedBy>
  <dcterms:modified xsi:type="dcterms:W3CDTF">2014-10-15T10:53:28Z</dcterms:modified>
  <cp:revision>64</cp:revision>
  <dc:subject/>
  <dc:title>Слайд 1</dc:title>
</cp:coreProperties>
</file>